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7.wmf" ContentType="image/x-wmf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20.wmf" ContentType="image/x-wmf"/>
  <Override PartName="/ppt/media/image19.jpeg" ContentType="image/jpeg"/>
  <Override PartName="/ppt/media/image4.png" ContentType="image/png"/>
  <Override PartName="/ppt/media/image12.wmf" ContentType="image/x-wmf"/>
  <Override PartName="/ppt/media/image8.png" ContentType="image/png"/>
  <Override PartName="/ppt/media/image17.wmf" ContentType="image/x-wmf"/>
  <Override PartName="/ppt/media/image9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1.png" ContentType="image/png"/>
  <Override PartName="/ppt/media/image14.wmf" ContentType="image/x-wmf"/>
  <Override PartName="/ppt/media/image5.png" ContentType="image/png"/>
  <Override PartName="/ppt/media/image13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18.jpeg" ContentType="image/jpeg"/>
  <Override PartName="/ppt/media/image15.png" ContentType="image/png"/>
  <Override PartName="/ppt/media/image37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29.png" ContentType="image/png"/>
  <Override PartName="/ppt/media/image32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98742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5D5D-01C5-45B8-9880-8EA0C1A7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7BF0-1177-4AD7-8CAF-A4F9016F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485E-00EF-4D9C-ABF0-704CAB63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6B72-DC9E-47EA-BF6D-12728644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DE0E-F2AC-4B47-8CB7-6C943A14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D9E2-8D8B-4725-A991-BE1FFB2F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FBAA-62DC-417F-9FDC-576C82C6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351F-E612-46D2-9D8F-FAC91C92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AE60-95FF-4D0D-9057-484A89B4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0D57-FE8D-46EA-8A18-7A2F9E57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58CA-10AE-4A24-B4B1-490BAE34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3565-ADE9-4B04-996F-827697A3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EBD9-34F6-4ACE-A210-35406A56C935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png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29.png"/><Relationship Id="rId4" Type="http://schemas.openxmlformats.org/officeDocument/2006/relationships/image" Target="../media/image30.wmf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Object 9"/>
          <p:cNvGraphicFramePr/>
          <p:nvPr/>
        </p:nvGraphicFramePr>
        <p:xfrm>
          <a:off x="5562720" y="0"/>
          <a:ext cx="3338280" cy="123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0"/>
                    <a:ext cx="333828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Line 11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églalap 2"/>
          <p:cNvSpPr/>
          <p:nvPr/>
        </p:nvSpPr>
        <p:spPr>
          <a:xfrm>
            <a:off x="12600" y="2133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Arial"/>
              </a:rPr>
              <a:t>A helyváltoztatási döntések és folyamatok befolyásolása információs szolgáltatásokk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églalap 4"/>
          <p:cNvSpPr/>
          <p:nvPr/>
        </p:nvSpPr>
        <p:spPr>
          <a:xfrm>
            <a:off x="324000" y="3341520"/>
            <a:ext cx="860256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r. Csiszár Csaba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egyetemi doce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álóczi Dénes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tudományos segédmunkatá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sztergár-Kiss Domokos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tanársegé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ándor Zsolt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PhD hallgat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gy Enikő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PhD hallgat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serháti Balázs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MSc hallgat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sonka Bálint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MSc hallgat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öldes Dávid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MSc hallgat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zövegdoboz 1"/>
          <p:cNvSpPr/>
          <p:nvPr/>
        </p:nvSpPr>
        <p:spPr>
          <a:xfrm>
            <a:off x="152280" y="76320"/>
            <a:ext cx="5229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udapesti Műszaki és Gazdaságtudományi Egyete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lekedésmérnöki és Járműmérnöki K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lekedésüzemi és Közlekedésgazdasági Tanszé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églalap 3"/>
          <p:cNvSpPr/>
          <p:nvPr/>
        </p:nvSpPr>
        <p:spPr>
          <a:xfrm>
            <a:off x="263520" y="637704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V. A városi közlekedés aktuális kérdése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Balatonfenyves 2014.09.1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églalap 3"/>
          <p:cNvSpPr/>
          <p:nvPr/>
        </p:nvSpPr>
        <p:spPr>
          <a:xfrm>
            <a:off x="201600" y="1052640"/>
            <a:ext cx="8724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ÁMOP-4.2.2.C-11/1/KONV-2012-0012: "Smarter Transport" - Kooperatív közlekedési rendszerek infokommunikációs támogatása –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P 4-2 Forgalomlebonyolódási jellemzők előrebecslé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26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7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28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0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31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3" name="Téglalap 1"/>
          <p:cNvSpPr/>
          <p:nvPr/>
        </p:nvSpPr>
        <p:spPr>
          <a:xfrm>
            <a:off x="196920" y="1341360"/>
            <a:ext cx="8551800" cy="54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lyóiratcikk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50021"/>
                </a:solidFill>
                <a:latin typeface="Arial"/>
              </a:rPr>
              <a:t>9. </a:t>
            </a:r>
            <a:r>
              <a:rPr b="0" lang="hu-HU" sz="14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Cserháti, B. – Csiszár, Cs.: 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Conception of Personalized Parking Assistant Application 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(2014)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1400"/>
            </a:b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  P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eriodica Polytechnica Civil Engineering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(submitt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10. Földes, D. – Csiszár, Cs.: </a:t>
            </a: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Route Plan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 Evaluation Method for Personalized Passenger Information </a:t>
            </a:r>
            <a:br>
              <a:rPr sz="1400"/>
            </a:b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Service</a:t>
            </a: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(2014) Transport. (submitt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11. Csonka, B. – Csiszár, Cs.: </a:t>
            </a: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Service 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Quality Analysis </a:t>
            </a: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and Assessment 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Method </a:t>
            </a: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for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 Carsharing </a:t>
            </a:r>
            <a:br>
              <a:rPr sz="1400"/>
            </a:b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(2014)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Transportation Research Part A : Policy and Practice. (submitt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12. 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Sándor, Zs.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: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Effects of weather related safety messages on the motorway traffic parameters </a:t>
            </a:r>
            <a:br>
              <a:rPr sz="1400"/>
            </a:b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(2014).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Transportation Research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Part F: Traffic Psychology and Behaviour. (submitt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onferenciacikk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1. Esztergár-Kiss, D. – Válóczi, D.: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thod for th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ganization of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ily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tivity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ains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rd International Conference on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dels and Technologies for Intelligent Transport Systems, Dresde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2. Sándor, Zs.-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ésési események elemzése helyi autóbusz közlekedésbe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Innováció és fenntartható felszíni közlekedés konferencia, Budapest. Elektronikusan publikálva: CD-n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Paper 6. Szervező: Magyar Mérnökakadémi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3. Nagy, E. - Esztergár-Kiss, D. –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ésési okok vizsgálata a vasúti személyszállításban 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nováció 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enntartható felszíni közlekedési konferencia, Budapest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lektronikusan 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kálva: CD-n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per 18. Szervező: Magyar Mérnökakadémi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3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40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2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43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5" name="Text Box 4"/>
          <p:cNvSpPr/>
          <p:nvPr/>
        </p:nvSpPr>
        <p:spPr>
          <a:xfrm>
            <a:off x="-1523880" y="55404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6078600" y="1720800"/>
          <a:ext cx="2465280" cy="2446560"/>
        </p:xfrm>
        <a:graphic>
          <a:graphicData uri="http://schemas.openxmlformats.org/drawingml/2006/table">
            <a:tbl>
              <a:tblPr/>
              <a:tblGrid>
                <a:gridCol w="1231920"/>
                <a:gridCol w="1233360"/>
              </a:tblGrid>
              <a:tr h="463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zonylat típ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zonylat jelzé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258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tmérő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(11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ódó, egymást keresztez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és 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glomeráció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öv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rjár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és 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rokjár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Y bus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" name="Tartalom helye 2"/>
          <p:cNvSpPr/>
          <p:nvPr/>
        </p:nvSpPr>
        <p:spPr>
          <a:xfrm>
            <a:off x="5711760" y="1197000"/>
            <a:ext cx="29638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jellegzetes viszonylat 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típusok és viszonylato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43080" y="4365720"/>
          <a:ext cx="4194000" cy="2448000"/>
        </p:xfrm>
        <a:graphic>
          <a:graphicData uri="http://schemas.openxmlformats.org/drawingml/2006/table">
            <a:tbl>
              <a:tblPr/>
              <a:tblGrid>
                <a:gridCol w="1015920"/>
                <a:gridCol w="309600"/>
                <a:gridCol w="1160280"/>
                <a:gridCol w="309600"/>
                <a:gridCol w="1398600"/>
              </a:tblGrid>
              <a:tr h="234720">
                <a:tc rowSpan="2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őmérsékl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apadé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d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0 °C alat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raz hid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az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°C fagypont körü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raz, fagypont körü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ő/havas eső (csendes eső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yhe id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zlekedés szempontjából eseménytel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56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~30 °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raz mel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vatarok, viharok, (esetleg jégesőve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Téglalap 18"/>
          <p:cNvSpPr/>
          <p:nvPr/>
        </p:nvSpPr>
        <p:spPr>
          <a:xfrm>
            <a:off x="320760" y="3841920"/>
            <a:ext cx="41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dőjárási kategóriák a hőmérséklet és csapadék függvényéb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4927680" y="4498920"/>
          <a:ext cx="3531960" cy="2335320"/>
        </p:xfrm>
        <a:graphic>
          <a:graphicData uri="http://schemas.openxmlformats.org/drawingml/2006/table">
            <a:tbl>
              <a:tblPr/>
              <a:tblGrid>
                <a:gridCol w="255600"/>
                <a:gridCol w="973080"/>
                <a:gridCol w="1330200"/>
                <a:gridCol w="973080"/>
              </a:tblGrid>
              <a:tr h="547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egória elnevezé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árértékek</a:t>
                      </a:r>
                      <a:br>
                        <a:rPr sz="1000"/>
                      </a:b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ő/nap utasforgal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választott megállók darabszá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5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csony forgal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zepes forgal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-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s forgal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-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en jelentős forgal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Σ</a:t>
                      </a:r>
                      <a:r>
                        <a:rPr b="1" lang="hu-HU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1" name="Szövegdoboz 7"/>
          <p:cNvSpPr/>
          <p:nvPr/>
        </p:nvSpPr>
        <p:spPr>
          <a:xfrm>
            <a:off x="4643280" y="4149720"/>
            <a:ext cx="43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állóhely kategóriá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artalom helye 2"/>
          <p:cNvSpPr/>
          <p:nvPr/>
        </p:nvSpPr>
        <p:spPr>
          <a:xfrm>
            <a:off x="36360" y="1484280"/>
            <a:ext cx="59817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élkitűzé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Milyen tényezők és milyen mértékben befolyásolják a megállóhelyi tartózkodási időt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asználá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Üzemeltetői feladatok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Utastájékoztatás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57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8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59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1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62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4" name="Text Box 4"/>
          <p:cNvSpPr/>
          <p:nvPr/>
        </p:nvSpPr>
        <p:spPr>
          <a:xfrm>
            <a:off x="-1523880" y="62064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210960" y="2716200"/>
          <a:ext cx="8433000" cy="2441520"/>
        </p:xfrm>
        <a:graphic>
          <a:graphicData uri="http://schemas.openxmlformats.org/drawingml/2006/table">
            <a:tbl>
              <a:tblPr/>
              <a:tblGrid>
                <a:gridCol w="765360"/>
                <a:gridCol w="571320"/>
                <a:gridCol w="662040"/>
                <a:gridCol w="743040"/>
                <a:gridCol w="492120"/>
                <a:gridCol w="615960"/>
                <a:gridCol w="615960"/>
                <a:gridCol w="739800"/>
                <a:gridCol w="617400"/>
                <a:gridCol w="493920"/>
                <a:gridCol w="492120"/>
                <a:gridCol w="493560"/>
                <a:gridCol w="492120"/>
                <a:gridCol w="638280"/>
              </a:tblGrid>
              <a:tr h="612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átum n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őpo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nd-sz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bessé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rat_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gallo sorsz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gallo_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netrendi_elte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galloba e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ajto 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ajto 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ajto 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ajto 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zallas jel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</a:tr>
              <a:tr h="36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.07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:56: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F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7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66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.07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:57: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F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2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6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.07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:57: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F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9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66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.07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:57: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F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6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.07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:57: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F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sp>
        <p:nvSpPr>
          <p:cNvPr id="366" name="Téglalap 17"/>
          <p:cNvSpPr/>
          <p:nvPr/>
        </p:nvSpPr>
        <p:spPr>
          <a:xfrm>
            <a:off x="95400" y="2200320"/>
            <a:ext cx="54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árműkövető rendszer által rögzített adatok szerkeze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artalom helye 2"/>
          <p:cNvSpPr/>
          <p:nvPr/>
        </p:nvSpPr>
        <p:spPr>
          <a:xfrm>
            <a:off x="5580000" y="2211480"/>
            <a:ext cx="2940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CSV adatfomátum - Access adatbáz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72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3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74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6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77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Text Box 4"/>
          <p:cNvSpPr/>
          <p:nvPr/>
        </p:nvSpPr>
        <p:spPr>
          <a:xfrm>
            <a:off x="-1523880" y="62064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artalom helye 2"/>
          <p:cNvSpPr/>
          <p:nvPr/>
        </p:nvSpPr>
        <p:spPr>
          <a:xfrm>
            <a:off x="1665360" y="1239840"/>
            <a:ext cx="5402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folyamat elemeinek és azok határpontjainak azonosítása (megállóhelyi és mozgási fázisok külön választása)</a:t>
            </a:r>
            <a:r>
              <a:rPr b="0" lang="hu-H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Kép 4" descr=""/>
          <p:cNvPicPr/>
          <p:nvPr/>
        </p:nvPicPr>
        <p:blipFill>
          <a:blip r:embed="rId2"/>
          <a:stretch/>
        </p:blipFill>
        <p:spPr>
          <a:xfrm>
            <a:off x="-36360" y="2276640"/>
            <a:ext cx="8710560" cy="4465440"/>
          </a:xfrm>
          <a:prstGeom prst="rect">
            <a:avLst/>
          </a:prstGeom>
          <a:ln w="0">
            <a:noFill/>
          </a:ln>
        </p:spPr>
      </p:pic>
      <p:sp>
        <p:nvSpPr>
          <p:cNvPr id="382" name="Tartalom helye 2"/>
          <p:cNvSpPr/>
          <p:nvPr/>
        </p:nvSpPr>
        <p:spPr>
          <a:xfrm>
            <a:off x="2859120" y="1955880"/>
            <a:ext cx="29638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datbázis szerkeze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87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89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92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Text Box 4"/>
          <p:cNvSpPr/>
          <p:nvPr/>
        </p:nvSpPr>
        <p:spPr>
          <a:xfrm>
            <a:off x="-1523880" y="58104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Tartalom helye 4" descr=""/>
          <p:cNvPicPr/>
          <p:nvPr/>
        </p:nvPicPr>
        <p:blipFill>
          <a:blip r:embed="rId2"/>
          <a:stretch/>
        </p:blipFill>
        <p:spPr>
          <a:xfrm>
            <a:off x="395280" y="2281320"/>
            <a:ext cx="7423200" cy="32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400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1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402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4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405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"/>
          <p:cNvSpPr/>
          <p:nvPr/>
        </p:nvSpPr>
        <p:spPr>
          <a:xfrm>
            <a:off x="-1523880" y="62064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482760" y="3222720"/>
          <a:ext cx="3382920" cy="2509920"/>
        </p:xfrm>
        <a:graphic>
          <a:graphicData uri="http://schemas.openxmlformats.org/drawingml/2006/table">
            <a:tbl>
              <a:tblPr/>
              <a:tblGrid>
                <a:gridCol w="352440"/>
                <a:gridCol w="1266480"/>
                <a:gridCol w="862200"/>
                <a:gridCol w="901800"/>
              </a:tblGrid>
              <a:tr h="5223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csony padl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s padl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csony forgal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zepes forgal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s forgal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en jelentős forgal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Téglalap 20"/>
          <p:cNvSpPr/>
          <p:nvPr/>
        </p:nvSpPr>
        <p:spPr>
          <a:xfrm>
            <a:off x="76320" y="1838160"/>
            <a:ext cx="431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Átlagos megállóhelyi tartózkodási idők (másodpercben) a megálló kategória és a padlómagasság függvényéb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4716360" y="2935440"/>
          <a:ext cx="3514680" cy="2795400"/>
        </p:xfrm>
        <a:graphic>
          <a:graphicData uri="http://schemas.openxmlformats.org/drawingml/2006/table">
            <a:tbl>
              <a:tblPr/>
              <a:tblGrid>
                <a:gridCol w="2471760"/>
                <a:gridCol w="1042920"/>
              </a:tblGrid>
              <a:tr h="293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őjárási kategó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ő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9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11.) száraz hid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21.) havazá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12.) száraz fagypont körü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2.) eső/havas es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(13.) közlekedés szempontjából eseménytel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1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(14.) száraz mel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1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4.) zivatarok, vihar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Téglalap 2"/>
          <p:cNvSpPr/>
          <p:nvPr/>
        </p:nvSpPr>
        <p:spPr>
          <a:xfrm>
            <a:off x="4303800" y="185580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Átlagos megállóhelyi tartózkodási idők (másodpercben) az időjárás kategóriák függvényéb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1" descr=""/>
          <p:cNvPicPr/>
          <p:nvPr/>
        </p:nvPicPr>
        <p:blipFill>
          <a:blip r:embed="rId1"/>
          <a:srcRect l="0" t="-289" r="0" b="0"/>
          <a:stretch/>
        </p:blipFill>
        <p:spPr>
          <a:xfrm>
            <a:off x="-36360" y="1536840"/>
            <a:ext cx="8856360" cy="462888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6" name="Csoportba foglalás 23" descr=""/>
          <p:cNvPicPr/>
          <p:nvPr/>
        </p:nvPicPr>
        <p:blipFill>
          <a:blip r:embed="rId2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417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419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1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422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4" name="Téglalap 19"/>
          <p:cNvSpPr/>
          <p:nvPr/>
        </p:nvSpPr>
        <p:spPr>
          <a:xfrm>
            <a:off x="79200" y="6237360"/>
            <a:ext cx="86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Átlagos megállóhelyi tartózkodási idő (másodpercben) 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álló kategóriák és az időjárás kategóriák szeri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-1523880" y="54936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ávnyíl 74"/>
          <p:cNvSpPr/>
          <p:nvPr/>
        </p:nvSpPr>
        <p:spPr>
          <a:xfrm>
            <a:off x="3076560" y="8568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23760"/>
            <a:ext cx="1419120" cy="433440"/>
          </a:xfrm>
          <a:prstGeom prst="rect">
            <a:avLst/>
          </a:prstGeom>
          <a:ln w="0">
            <a:noFill/>
          </a:ln>
        </p:spPr>
      </p:pic>
      <p:sp>
        <p:nvSpPr>
          <p:cNvPr id="430" name="Szövegdoboz 35"/>
          <p:cNvSpPr/>
          <p:nvPr/>
        </p:nvSpPr>
        <p:spPr>
          <a:xfrm>
            <a:off x="3575160" y="4932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1" name="Csoportba foglalás 25"/>
          <p:cNvGrpSpPr/>
          <p:nvPr/>
        </p:nvGrpSpPr>
        <p:grpSpPr>
          <a:xfrm>
            <a:off x="4427640" y="52560"/>
            <a:ext cx="1420560" cy="337320"/>
            <a:chOff x="4427640" y="52560"/>
            <a:chExt cx="1420560" cy="337320"/>
          </a:xfrm>
        </p:grpSpPr>
        <p:sp>
          <p:nvSpPr>
            <p:cNvPr id="432" name="Sávnyíl 83"/>
            <p:cNvSpPr/>
            <p:nvPr/>
          </p:nvSpPr>
          <p:spPr>
            <a:xfrm>
              <a:off x="4427640" y="7632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Szövegdoboz 33"/>
            <p:cNvSpPr/>
            <p:nvPr/>
          </p:nvSpPr>
          <p:spPr>
            <a:xfrm>
              <a:off x="4938120" y="5256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4" name="Csoportba foglalás 26"/>
          <p:cNvGrpSpPr/>
          <p:nvPr/>
        </p:nvGrpSpPr>
        <p:grpSpPr>
          <a:xfrm>
            <a:off x="5788080" y="52560"/>
            <a:ext cx="1420920" cy="337320"/>
            <a:chOff x="5788080" y="52560"/>
            <a:chExt cx="1420920" cy="337320"/>
          </a:xfrm>
        </p:grpSpPr>
        <p:sp>
          <p:nvSpPr>
            <p:cNvPr id="435" name="Sávnyíl 86"/>
            <p:cNvSpPr/>
            <p:nvPr/>
          </p:nvSpPr>
          <p:spPr>
            <a:xfrm>
              <a:off x="5788080" y="7632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Szövegdoboz 31"/>
            <p:cNvSpPr/>
            <p:nvPr/>
          </p:nvSpPr>
          <p:spPr>
            <a:xfrm>
              <a:off x="6298920" y="5256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37" name="Tartalom helye 2" descr=""/>
          <p:cNvPicPr/>
          <p:nvPr/>
        </p:nvPicPr>
        <p:blipFill>
          <a:blip r:embed="rId2"/>
          <a:stretch/>
        </p:blipFill>
        <p:spPr>
          <a:xfrm>
            <a:off x="212760" y="1189080"/>
            <a:ext cx="8766000" cy="13780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" descr=""/>
          <p:cNvPicPr/>
          <p:nvPr/>
        </p:nvPicPr>
        <p:blipFill>
          <a:blip r:embed="rId3"/>
          <a:stretch/>
        </p:blipFill>
        <p:spPr>
          <a:xfrm>
            <a:off x="150840" y="2276640"/>
            <a:ext cx="8597880" cy="4176720"/>
          </a:xfrm>
          <a:prstGeom prst="rect">
            <a:avLst/>
          </a:prstGeom>
          <a:ln w="0">
            <a:noFill/>
          </a:ln>
        </p:spPr>
      </p:pic>
      <p:sp>
        <p:nvSpPr>
          <p:cNvPr id="439" name="Téglalap 1"/>
          <p:cNvSpPr/>
          <p:nvPr/>
        </p:nvSpPr>
        <p:spPr>
          <a:xfrm>
            <a:off x="755640" y="6546960"/>
            <a:ext cx="718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Átlagos megállóhelyi tartózkodási idő megálló kategóriák szerint, óránké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-1523880" y="47628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6199200" y="1341360"/>
            <a:ext cx="248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c00000"/>
                </a:solidFill>
                <a:latin typeface="Arial"/>
                <a:ea typeface="Calibri"/>
              </a:rPr>
              <a:t>Előrebecslési módszer fejleszt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446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7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448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0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451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3" name="Text Box 4"/>
          <p:cNvSpPr/>
          <p:nvPr/>
        </p:nvSpPr>
        <p:spPr>
          <a:xfrm>
            <a:off x="79200" y="676440"/>
            <a:ext cx="852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Időjárási eseményekkel kapcsolatos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közlekedésbiztonsági üzenetek forgalmi hat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artalom helye 2"/>
          <p:cNvSpPr/>
          <p:nvPr/>
        </p:nvSpPr>
        <p:spPr>
          <a:xfrm>
            <a:off x="30240" y="1125360"/>
            <a:ext cx="886284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élkitűzé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utópályán kedvezőtlen időjárási körülmények esetén a változtatható jelzésképű táblán (VJT) megjelenített üzenetek forgalmi hatásainak (</a:t>
            </a:r>
            <a:r>
              <a:rPr b="0" lang="hu-HU" sz="1600" spc="-1" strike="noStrike">
                <a:solidFill>
                  <a:srgbClr val="0070c0"/>
                </a:solidFill>
                <a:latin typeface="Arial"/>
                <a:ea typeface="Arial"/>
              </a:rPr>
              <a:t>forgalomlassítás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) elemz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Módszertan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utópálya-üzemeltető forgalmi és meteorológiai adatainak elemzés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időjárási esemény előtti és utáni forgalmi vizsgálat, átlagképzés, 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z eltérő időjárási jellemzővel bíró időszakok összehasonlítá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mérések két gyorsforgalmi úton, több helyszínen, két és három sávos szakaszok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különböző időjárási körülmények közötti vizsgálatok, különböző megjelenített jelzésképekk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21" descr=""/>
          <p:cNvPicPr/>
          <p:nvPr/>
        </p:nvPicPr>
        <p:blipFill>
          <a:blip r:embed="rId1"/>
          <a:stretch/>
        </p:blipFill>
        <p:spPr>
          <a:xfrm>
            <a:off x="-22320" y="4797360"/>
            <a:ext cx="5889600" cy="221292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8" name="Csoportba foglalás 23" descr=""/>
          <p:cNvPicPr/>
          <p:nvPr/>
        </p:nvPicPr>
        <p:blipFill>
          <a:blip r:embed="rId2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459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0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461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3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464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6" name="Text Box 4"/>
          <p:cNvSpPr/>
          <p:nvPr/>
        </p:nvSpPr>
        <p:spPr>
          <a:xfrm>
            <a:off x="79200" y="576360"/>
            <a:ext cx="852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Időjárási eseményekkel kapcsolatos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közlekedésbiztonsági üzenetek forgalmi hat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artalom helye 2"/>
          <p:cNvSpPr/>
          <p:nvPr/>
        </p:nvSpPr>
        <p:spPr>
          <a:xfrm>
            <a:off x="-463680" y="1268280"/>
            <a:ext cx="95727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Két és három sávos szakaszokon  az egyes forgalmi sávokon a jelzésképek által kiváltott sebességcsökkené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Picture 14" descr=""/>
          <p:cNvPicPr/>
          <p:nvPr/>
        </p:nvPicPr>
        <p:blipFill>
          <a:blip r:embed="rId3"/>
          <a:stretch/>
        </p:blipFill>
        <p:spPr>
          <a:xfrm>
            <a:off x="108000" y="1773360"/>
            <a:ext cx="5796000" cy="19987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8" descr=""/>
          <p:cNvPicPr/>
          <p:nvPr/>
        </p:nvPicPr>
        <p:blipFill>
          <a:blip r:embed="rId4"/>
          <a:stretch/>
        </p:blipFill>
        <p:spPr>
          <a:xfrm>
            <a:off x="4392720" y="1665360"/>
            <a:ext cx="5796000" cy="13413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6" descr=""/>
          <p:cNvPicPr/>
          <p:nvPr/>
        </p:nvPicPr>
        <p:blipFill>
          <a:blip r:embed="rId5"/>
          <a:stretch/>
        </p:blipFill>
        <p:spPr>
          <a:xfrm>
            <a:off x="4176720" y="3573360"/>
            <a:ext cx="5796000" cy="1360440"/>
          </a:xfrm>
          <a:prstGeom prst="rect">
            <a:avLst/>
          </a:prstGeom>
          <a:ln w="0">
            <a:noFill/>
          </a:ln>
        </p:spPr>
      </p:pic>
      <p:sp>
        <p:nvSpPr>
          <p:cNvPr id="471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églalap 2"/>
          <p:cNvSpPr/>
          <p:nvPr/>
        </p:nvSpPr>
        <p:spPr>
          <a:xfrm>
            <a:off x="1601640" y="2133720"/>
            <a:ext cx="892836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ódszert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redmény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utatás folytatá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zövegdoboz 21"/>
          <p:cNvSpPr/>
          <p:nvPr/>
        </p:nvSpPr>
        <p:spPr>
          <a:xfrm>
            <a:off x="2136600" y="198360"/>
            <a:ext cx="40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Csoportba foglalás 8"/>
          <p:cNvGrpSpPr/>
          <p:nvPr/>
        </p:nvGrpSpPr>
        <p:grpSpPr>
          <a:xfrm>
            <a:off x="2965320" y="193680"/>
            <a:ext cx="1420920" cy="337320"/>
            <a:chOff x="2965320" y="193680"/>
            <a:chExt cx="1420920" cy="337320"/>
          </a:xfrm>
        </p:grpSpPr>
        <p:sp>
          <p:nvSpPr>
            <p:cNvPr id="91" name="Sávnyíl 18"/>
            <p:cNvSpPr/>
            <p:nvPr/>
          </p:nvSpPr>
          <p:spPr>
            <a:xfrm>
              <a:off x="2965320" y="217440"/>
              <a:ext cx="1420920" cy="2714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4" y="0"/>
                  </a:lnTo>
                  <a:lnTo>
                    <a:pt x="21600" y="10800"/>
                  </a:lnTo>
                  <a:lnTo>
                    <a:pt x="19534" y="21600"/>
                  </a:lnTo>
                  <a:lnTo>
                    <a:pt x="0" y="21600"/>
                  </a:lnTo>
                  <a:lnTo>
                    <a:pt x="2066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Szövegdoboz 19"/>
            <p:cNvSpPr/>
            <p:nvPr/>
          </p:nvSpPr>
          <p:spPr>
            <a:xfrm>
              <a:off x="3476520" y="19368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Csoportba foglalás 9"/>
          <p:cNvGrpSpPr/>
          <p:nvPr/>
        </p:nvGrpSpPr>
        <p:grpSpPr>
          <a:xfrm>
            <a:off x="4329000" y="196920"/>
            <a:ext cx="1420920" cy="337320"/>
            <a:chOff x="4329000" y="196920"/>
            <a:chExt cx="1420920" cy="337320"/>
          </a:xfrm>
        </p:grpSpPr>
        <p:sp>
          <p:nvSpPr>
            <p:cNvPr id="94" name="Sávnyíl 16"/>
            <p:cNvSpPr/>
            <p:nvPr/>
          </p:nvSpPr>
          <p:spPr>
            <a:xfrm>
              <a:off x="432900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Szövegdoboz 17"/>
            <p:cNvSpPr/>
            <p:nvPr/>
          </p:nvSpPr>
          <p:spPr>
            <a:xfrm>
              <a:off x="4840200" y="19692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Csoportba foglalás 10"/>
          <p:cNvGrpSpPr/>
          <p:nvPr/>
        </p:nvGrpSpPr>
        <p:grpSpPr>
          <a:xfrm>
            <a:off x="5688000" y="196920"/>
            <a:ext cx="1422360" cy="337320"/>
            <a:chOff x="5688000" y="196920"/>
            <a:chExt cx="1422360" cy="337320"/>
          </a:xfrm>
        </p:grpSpPr>
        <p:sp>
          <p:nvSpPr>
            <p:cNvPr id="97" name="Sávnyíl 14"/>
            <p:cNvSpPr/>
            <p:nvPr/>
          </p:nvSpPr>
          <p:spPr>
            <a:xfrm>
              <a:off x="5688000" y="220680"/>
              <a:ext cx="1422360" cy="272880"/>
            </a:xfrm>
            <a:custGeom>
              <a:avLst/>
              <a:gdLst>
                <a:gd name="textAreaLeft" fmla="*/ 0 w 1422360"/>
                <a:gd name="textAreaRight" fmla="*/ 1422720 w 14223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Szövegdoboz 15"/>
            <p:cNvSpPr/>
            <p:nvPr/>
          </p:nvSpPr>
          <p:spPr>
            <a:xfrm>
              <a:off x="6199200" y="19692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Sávnyíl 19"/>
          <p:cNvSpPr/>
          <p:nvPr/>
        </p:nvSpPr>
        <p:spPr>
          <a:xfrm>
            <a:off x="1601640" y="2192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noFill/>
          <a:ln w="93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4"/>
          <p:cNvSpPr/>
          <p:nvPr/>
        </p:nvSpPr>
        <p:spPr>
          <a:xfrm rot="16200000">
            <a:off x="5493600" y="3199320"/>
            <a:ext cx="697248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Tartal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12"/>
          <p:cNvSpPr/>
          <p:nvPr/>
        </p:nvSpPr>
        <p:spPr>
          <a:xfrm>
            <a:off x="171360" y="64296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mobilitással kapcsolatos döntések típusa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369720" y="1501920"/>
          <a:ext cx="8115480" cy="5356080"/>
        </p:xfrm>
        <a:graphic>
          <a:graphicData uri="http://schemas.openxmlformats.org/drawingml/2006/table">
            <a:tbl>
              <a:tblPr/>
              <a:tblGrid>
                <a:gridCol w="1179720"/>
                <a:gridCol w="3598920"/>
                <a:gridCol w="3336840"/>
              </a:tblGrid>
              <a:tr h="542880"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gnevez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ír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döntések befolyásolásának mód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1069920"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730000"/>
                          </a:solidFill>
                          <a:latin typeface="Arial"/>
                        </a:rPr>
                        <a:t>tudatformál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nntartható közlekedési módok nagyobb mértékű használatára való készteté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„lágy”, a környezetbarát és a közösségi mobilitási formák előnyeinek megismerteté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tatás, nevelés, rendezvények szervezé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920"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730000"/>
                          </a:solidFill>
                          <a:latin typeface="Arial"/>
                        </a:rPr>
                        <a:t>hosszútávra kiható döntés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kóhely-választás, munkahely-választás (távmunka), egyéni gépjármű tulajdonlás st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tás tanácsadók/koordinátorok, munkahelyi közlekedési tervek alkalmazása, car-pooling elterjedésének segíté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730000"/>
                          </a:solidFill>
                          <a:latin typeface="Arial"/>
                        </a:rPr>
                        <a:t>középtávra kiható döntés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-sharing, bike-sharing tagság, közforgalmú közlekedésnél havi jegy vásárlás, st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lektív jellegű, statikus információkon alapuló tájékoztatás a közlekedési szolgáltatásokró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920"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730000"/>
                          </a:solidFill>
                          <a:latin typeface="Arial"/>
                        </a:rPr>
                        <a:t>rövidtávra kiható döntés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hez helyszín választása, útvonalválasztás, eszközválasztás, időpont (idősáv) meghatározása, csomagszállítás, st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emélyre szabott, az adott helyváltoztatáshoz kapcsolódó, dinamikus információkat is használó tájékoztatási (befolyásolási) formá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730000"/>
                          </a:solidFill>
                          <a:latin typeface="Arial"/>
                        </a:rPr>
                        <a:t>pillanatnyi hatású döntés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el- és leszálláshoz használt ajtó megválasztása, mozgólépcső, lift használata, st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lektív jellegű, dinamikus információkat is használó tájékoztatás a járművön és az utasforgalmi létesítményné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74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477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8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479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1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482" name="Téglalap 1"/>
          <p:cNvSpPr/>
          <p:nvPr/>
        </p:nvSpPr>
        <p:spPr>
          <a:xfrm>
            <a:off x="1155600" y="981000"/>
            <a:ext cx="68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intelligens jármű, intelligens infrastruktúra </a:t>
            </a:r>
            <a:r>
              <a:rPr b="0" lang="hu-HU" sz="1600" spc="-1" strike="noStrike">
                <a:solidFill>
                  <a:srgbClr val="0070c0"/>
                </a:solidFill>
                <a:latin typeface="Arial"/>
              </a:rPr>
              <a:t>– intelligens utazó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zövegdoboz 86"/>
          <p:cNvSpPr/>
          <p:nvPr/>
        </p:nvSpPr>
        <p:spPr>
          <a:xfrm>
            <a:off x="6956280" y="1044720"/>
            <a:ext cx="202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(forrás: sajá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12"/>
          <p:cNvSpPr/>
          <p:nvPr/>
        </p:nvSpPr>
        <p:spPr>
          <a:xfrm>
            <a:off x="171360" y="64296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emélyre szabott parkolást támogató alkalmazás koncepciój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7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48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490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2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493" name="Téglalap 2"/>
          <p:cNvSpPr/>
          <p:nvPr/>
        </p:nvSpPr>
        <p:spPr>
          <a:xfrm>
            <a:off x="201600" y="1197000"/>
            <a:ext cx="5460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ontextus függő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alós idejű (előrebecsül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ultimodális (helyváltoztatási láncok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integráci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églalap 3"/>
          <p:cNvSpPr/>
          <p:nvPr/>
        </p:nvSpPr>
        <p:spPr>
          <a:xfrm>
            <a:off x="244440" y="3137040"/>
            <a:ext cx="819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70c0"/>
                </a:solidFill>
                <a:latin typeface="Arial"/>
              </a:rPr>
              <a:t>különböző forrásokból származó (eltérő érvényességi idejű) adathalmazok egyesítése </a:t>
            </a:r>
            <a:r>
              <a:rPr b="0" lang="hu-HU" sz="1600" spc="-1" strike="noStrike" u="sng">
                <a:solidFill>
                  <a:srgbClr val="0070c0"/>
                </a:solidFill>
                <a:uFillTx/>
                <a:latin typeface="Arial"/>
              </a:rPr>
              <a:t>közösségi szinten</a:t>
            </a:r>
            <a:r>
              <a:rPr b="0" lang="hu-HU" sz="1600" spc="-1" strike="noStrike">
                <a:solidFill>
                  <a:srgbClr val="0070c0"/>
                </a:solidFill>
                <a:latin typeface="Arial"/>
              </a:rPr>
              <a:t> és </a:t>
            </a:r>
            <a:r>
              <a:rPr b="0" lang="hu-HU" sz="1600" spc="-1" strike="noStrike" u="sng">
                <a:solidFill>
                  <a:srgbClr val="0070c0"/>
                </a:solidFill>
                <a:uFillTx/>
                <a:latin typeface="Arial"/>
              </a:rPr>
              <a:t>felhasználói </a:t>
            </a:r>
            <a:r>
              <a:rPr b="0" lang="hu-HU" sz="1600" spc="-1" strike="noStrike">
                <a:solidFill>
                  <a:srgbClr val="0070c0"/>
                </a:solidFill>
                <a:latin typeface="Arial"/>
              </a:rPr>
              <a:t>szint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artalom helye 2"/>
          <p:cNvSpPr/>
          <p:nvPr/>
        </p:nvSpPr>
        <p:spPr>
          <a:xfrm>
            <a:off x="73080" y="4076640"/>
            <a:ext cx="88628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élkitűzé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z alkalmazás működési jellemzőinek meghatározása, a működés szemléltet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Módszertan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Helyzetelemzé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Utazói igények feltárás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z iránymutató és elvárt jellemzők alapján a koncepció kidolgoz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Példaterületen működés szemléltet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12"/>
          <p:cNvSpPr/>
          <p:nvPr/>
        </p:nvSpPr>
        <p:spPr>
          <a:xfrm>
            <a:off x="171360" y="64296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emélyre szabott parkolást támogató alkalmazá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500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1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502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4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pic>
        <p:nvPicPr>
          <p:cNvPr id="505" name="Diagram 17" descr=""/>
          <p:cNvPicPr/>
          <p:nvPr/>
        </p:nvPicPr>
        <p:blipFill>
          <a:blip r:embed="rId3"/>
          <a:stretch/>
        </p:blipFill>
        <p:spPr>
          <a:xfrm>
            <a:off x="317520" y="2494080"/>
            <a:ext cx="8143920" cy="3962160"/>
          </a:xfrm>
          <a:prstGeom prst="rect">
            <a:avLst/>
          </a:prstGeom>
          <a:ln w="0">
            <a:noFill/>
          </a:ln>
        </p:spPr>
      </p:pic>
      <p:sp>
        <p:nvSpPr>
          <p:cNvPr id="506" name="Téglalap 1"/>
          <p:cNvSpPr/>
          <p:nvPr/>
        </p:nvSpPr>
        <p:spPr>
          <a:xfrm>
            <a:off x="171360" y="6550200"/>
            <a:ext cx="843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értékelő szempontok megjelenési gyakorisága a parkolást támogató alkalmazásokb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1116000" y="1125360"/>
          <a:ext cx="6408720" cy="1366920"/>
        </p:xfrm>
        <a:graphic>
          <a:graphicData uri="http://schemas.openxmlformats.org/drawingml/2006/table">
            <a:tbl>
              <a:tblPr/>
              <a:tblGrid>
                <a:gridCol w="1062000"/>
                <a:gridCol w="1989360"/>
                <a:gridCol w="1169640"/>
                <a:gridCol w="2187720"/>
              </a:tblGrid>
              <a:tr h="27324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ark 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www.parkme.co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eopark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en.neoparking.co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ark Me R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parkmeright.co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F P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sfpark.org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est Park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www.bestparking.co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oice P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www.voicepark.org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ark 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www.park-up.co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entral PArk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s://find.parking.co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arkope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www.parkopedia.co.uk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 P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www.iru.org/transpark-ap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12"/>
          <p:cNvSpPr/>
          <p:nvPr/>
        </p:nvSpPr>
        <p:spPr>
          <a:xfrm>
            <a:off x="171360" y="498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emélyre szabott parkolást támogató alkalmazá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1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512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3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514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6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8" name="Object 5"/>
          <p:cNvGraphicFramePr/>
          <p:nvPr/>
        </p:nvGraphicFramePr>
        <p:xfrm>
          <a:off x="-185760" y="871560"/>
          <a:ext cx="9437760" cy="525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85760" y="871560"/>
                    <a:ext cx="94377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Rectangle 6"/>
          <p:cNvSpPr/>
          <p:nvPr/>
        </p:nvSpPr>
        <p:spPr>
          <a:xfrm>
            <a:off x="2376360" y="6259680"/>
            <a:ext cx="50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parkolás tervező információs rendszer modellj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12"/>
          <p:cNvSpPr/>
          <p:nvPr/>
        </p:nvSpPr>
        <p:spPr>
          <a:xfrm>
            <a:off x="171360" y="498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emélyre szabott parkolást támogató alkalmazá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525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6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527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29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530" name="Téglalap 1"/>
          <p:cNvSpPr/>
          <p:nvPr/>
        </p:nvSpPr>
        <p:spPr>
          <a:xfrm>
            <a:off x="0" y="20811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put űrl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1" name="Kép 16" descr="D:\MSC_2013_10_22\tdk20131022\2013_10_31\mentett beállítások.jpg"/>
          <p:cNvPicPr/>
          <p:nvPr/>
        </p:nvPicPr>
        <p:blipFill>
          <a:blip r:embed="rId3"/>
          <a:srcRect l="0" t="0" r="0" b="44222"/>
          <a:stretch/>
        </p:blipFill>
        <p:spPr>
          <a:xfrm>
            <a:off x="1506600" y="836640"/>
            <a:ext cx="5981760" cy="3168720"/>
          </a:xfrm>
          <a:prstGeom prst="rect">
            <a:avLst/>
          </a:prstGeom>
          <a:ln w="0">
            <a:noFill/>
          </a:ln>
        </p:spPr>
      </p:pic>
      <p:pic>
        <p:nvPicPr>
          <p:cNvPr id="532" name="Kép 18" descr="D:\MSC_2013_10_22\tdk20131022\2013_10_31\javasolt parkolók.jpg"/>
          <p:cNvPicPr/>
          <p:nvPr/>
        </p:nvPicPr>
        <p:blipFill>
          <a:blip r:embed="rId4"/>
          <a:stretch/>
        </p:blipFill>
        <p:spPr>
          <a:xfrm>
            <a:off x="3076560" y="4059360"/>
            <a:ext cx="4357800" cy="2816280"/>
          </a:xfrm>
          <a:prstGeom prst="rect">
            <a:avLst/>
          </a:prstGeom>
          <a:ln w="0">
            <a:noFill/>
          </a:ln>
        </p:spPr>
      </p:pic>
      <p:sp>
        <p:nvSpPr>
          <p:cNvPr id="533" name="Téglalap 19"/>
          <p:cNvSpPr/>
          <p:nvPr/>
        </p:nvSpPr>
        <p:spPr>
          <a:xfrm>
            <a:off x="108000" y="5467320"/>
            <a:ext cx="15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utput űrl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Kanyar felfelé 2"/>
          <p:cNvSpPr/>
          <p:nvPr/>
        </p:nvSpPr>
        <p:spPr>
          <a:xfrm rot="5400000">
            <a:off x="2000160" y="4057560"/>
            <a:ext cx="1239840" cy="992160"/>
          </a:xfrm>
          <a:custGeom>
            <a:avLst/>
            <a:gdLst/>
            <a:ahLst/>
            <a:rect l="l" t="t" r="r" b="b"/>
            <a:pathLst>
              <a:path w="1239838" h="992188">
                <a:moveTo>
                  <a:pt x="0" y="824171"/>
                </a:moveTo>
                <a:lnTo>
                  <a:pt x="907782" y="824171"/>
                </a:lnTo>
                <a:lnTo>
                  <a:pt x="907782" y="248047"/>
                </a:lnTo>
                <a:lnTo>
                  <a:pt x="743744" y="248047"/>
                </a:lnTo>
                <a:lnTo>
                  <a:pt x="991791" y="0"/>
                </a:lnTo>
                <a:lnTo>
                  <a:pt x="1239838" y="248047"/>
                </a:lnTo>
                <a:lnTo>
                  <a:pt x="1075800" y="248047"/>
                </a:lnTo>
                <a:lnTo>
                  <a:pt x="1075800" y="992188"/>
                </a:lnTo>
                <a:lnTo>
                  <a:pt x="0" y="992188"/>
                </a:lnTo>
                <a:lnTo>
                  <a:pt x="0" y="82417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12"/>
          <p:cNvSpPr/>
          <p:nvPr/>
        </p:nvSpPr>
        <p:spPr>
          <a:xfrm>
            <a:off x="171360" y="498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emélyre szabott parkolást támogató alkalmazá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539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0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541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3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4"/>
          <p:cNvSpPr/>
          <p:nvPr/>
        </p:nvSpPr>
        <p:spPr>
          <a:xfrm>
            <a:off x="171360" y="846000"/>
            <a:ext cx="824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kolási kereslet és kínálat valós idejű összerendelése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változó díjtételek alkalmazásáv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6" name="Object 6"/>
          <p:cNvGraphicFramePr/>
          <p:nvPr/>
        </p:nvGraphicFramePr>
        <p:xfrm>
          <a:off x="841320" y="1484280"/>
          <a:ext cx="7618320" cy="507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1320" y="1484280"/>
                    <a:ext cx="7618320" cy="50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Rectangle 22"/>
          <p:cNvSpPr/>
          <p:nvPr/>
        </p:nvSpPr>
        <p:spPr>
          <a:xfrm>
            <a:off x="2556000" y="645336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algoritmus vázl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12"/>
          <p:cNvSpPr/>
          <p:nvPr/>
        </p:nvSpPr>
        <p:spPr>
          <a:xfrm>
            <a:off x="316080" y="47628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tvonal értékelő eljárás személyre szabott utastájékoztatásho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553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4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555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7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558" name="Tartalom helye 2"/>
          <p:cNvSpPr/>
          <p:nvPr/>
        </p:nvSpPr>
        <p:spPr>
          <a:xfrm>
            <a:off x="28440" y="692280"/>
            <a:ext cx="88632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élkitűzé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z algoritmus egy minősítő számot határoz meg. Ez egy időalapú ellenállás érték, mely az </a:t>
            </a:r>
            <a:r>
              <a:rPr b="1" lang="hu-HU" sz="1600" spc="-1" strike="noStrike">
                <a:solidFill>
                  <a:srgbClr val="c00000"/>
                </a:solidFill>
                <a:latin typeface="Arial"/>
                <a:ea typeface="Arial"/>
              </a:rPr>
              <a:t>érzékelt időt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dja vissza a személyes beállítási lehetőségek alapj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Módszertan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Helyzetelemző eljárás kidolgozása - helyzetelemzé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Személyes beállítási szempontok meghatározás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 gyalogos objektumok jellemzőinek modellez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z érzékelt időelemek számítási módszerének kidolgoz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Példaterületen működés szemléltet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Téglalap 3" descr=""/>
          <p:cNvPicPr/>
          <p:nvPr/>
        </p:nvPicPr>
        <p:blipFill>
          <a:blip r:embed="rId3"/>
          <a:stretch/>
        </p:blipFill>
        <p:spPr>
          <a:xfrm>
            <a:off x="2786040" y="3627360"/>
            <a:ext cx="3346560" cy="395280"/>
          </a:xfrm>
          <a:prstGeom prst="rect">
            <a:avLst/>
          </a:prstGeom>
          <a:ln w="0">
            <a:noFill/>
          </a:ln>
        </p:spPr>
      </p:pic>
      <p:pic>
        <p:nvPicPr>
          <p:cNvPr id="561" name="Téglalap 4" descr=""/>
          <p:cNvPicPr/>
          <p:nvPr/>
        </p:nvPicPr>
        <p:blipFill>
          <a:blip r:embed="rId4"/>
          <a:stretch/>
        </p:blipFill>
        <p:spPr>
          <a:xfrm>
            <a:off x="3206880" y="4432320"/>
            <a:ext cx="3090600" cy="463680"/>
          </a:xfrm>
          <a:prstGeom prst="rect">
            <a:avLst/>
          </a:prstGeom>
          <a:ln w="0">
            <a:noFill/>
          </a:ln>
        </p:spPr>
      </p:pic>
      <p:pic>
        <p:nvPicPr>
          <p:cNvPr id="562" name="Téglalap 5" descr=""/>
          <p:cNvPicPr/>
          <p:nvPr/>
        </p:nvPicPr>
        <p:blipFill>
          <a:blip r:embed="rId5"/>
          <a:stretch/>
        </p:blipFill>
        <p:spPr>
          <a:xfrm>
            <a:off x="103320" y="5072040"/>
            <a:ext cx="8450280" cy="1236600"/>
          </a:xfrm>
          <a:prstGeom prst="rect">
            <a:avLst/>
          </a:prstGeom>
          <a:ln w="0">
            <a:noFill/>
          </a:ln>
        </p:spPr>
      </p:pic>
      <p:sp>
        <p:nvSpPr>
          <p:cNvPr id="563" name="Lefelé nyíl 6"/>
          <p:cNvSpPr/>
          <p:nvPr/>
        </p:nvSpPr>
        <p:spPr>
          <a:xfrm>
            <a:off x="3635280" y="4024440"/>
            <a:ext cx="150840" cy="40932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églalap 7"/>
          <p:cNvSpPr/>
          <p:nvPr/>
        </p:nvSpPr>
        <p:spPr>
          <a:xfrm>
            <a:off x="684360" y="6334200"/>
            <a:ext cx="72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70c0"/>
                </a:solidFill>
                <a:latin typeface="Arial"/>
                <a:ea typeface="Arial"/>
              </a:rPr>
              <a:t>A tényezők több szintű kibontása, az összefüggések részletes felírá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tvonal értékelő eljárás személyre szabott utastájékoztatásho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569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0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571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3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églalap 3"/>
          <p:cNvSpPr/>
          <p:nvPr/>
        </p:nvSpPr>
        <p:spPr>
          <a:xfrm>
            <a:off x="500040" y="6280200"/>
            <a:ext cx="79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zemélyre szabható beállítási lehetősége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7" name="Objektum 5"/>
          <p:cNvGraphicFramePr/>
          <p:nvPr/>
        </p:nvGraphicFramePr>
        <p:xfrm>
          <a:off x="220680" y="1136520"/>
          <a:ext cx="3811680" cy="453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8" name="Objektum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680" y="1136520"/>
                    <a:ext cx="381168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0" name="Objektum 7"/>
          <p:cNvGraphicFramePr/>
          <p:nvPr/>
        </p:nvGraphicFramePr>
        <p:xfrm>
          <a:off x="4363920" y="1628640"/>
          <a:ext cx="4214880" cy="334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1" name="Objektum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3920" y="1628640"/>
                    <a:ext cx="421488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Téglalap 21"/>
          <p:cNvSpPr/>
          <p:nvPr/>
        </p:nvSpPr>
        <p:spPr>
          <a:xfrm>
            <a:off x="836640" y="5678640"/>
            <a:ext cx="23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gyaloglásná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églalap 22"/>
          <p:cNvSpPr/>
          <p:nvPr/>
        </p:nvSpPr>
        <p:spPr>
          <a:xfrm>
            <a:off x="5342040" y="5732640"/>
            <a:ext cx="23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rakozásnál és járművö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12"/>
          <p:cNvSpPr/>
          <p:nvPr/>
        </p:nvSpPr>
        <p:spPr>
          <a:xfrm>
            <a:off x="179280" y="115920"/>
            <a:ext cx="453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tvonal értékelő eljárás személyre szabott utastájékoztatásho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églalap 21"/>
          <p:cNvSpPr/>
          <p:nvPr/>
        </p:nvSpPr>
        <p:spPr>
          <a:xfrm>
            <a:off x="1133640" y="4489560"/>
            <a:ext cx="23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szerűsített folyamatáb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églalap 22"/>
          <p:cNvSpPr/>
          <p:nvPr/>
        </p:nvSpPr>
        <p:spPr>
          <a:xfrm>
            <a:off x="1908000" y="6550200"/>
            <a:ext cx="366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űködést szemléltető folyamatáb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1" name="Objektum 1"/>
          <p:cNvGraphicFramePr/>
          <p:nvPr/>
        </p:nvGraphicFramePr>
        <p:xfrm>
          <a:off x="4859280" y="25560"/>
          <a:ext cx="3862440" cy="687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2" name="Objektum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25560"/>
                    <a:ext cx="3862440" cy="68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4" name="Objektum 3"/>
          <p:cNvGraphicFramePr/>
          <p:nvPr/>
        </p:nvGraphicFramePr>
        <p:xfrm>
          <a:off x="0" y="2852640"/>
          <a:ext cx="5292720" cy="11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5" name="Objektum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852640"/>
                    <a:ext cx="529272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tvonal értékelő eljárás személyre szabott utastájékoztatásho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600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1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602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4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églalap 2"/>
          <p:cNvSpPr/>
          <p:nvPr/>
        </p:nvSpPr>
        <p:spPr>
          <a:xfrm>
            <a:off x="196920" y="6550200"/>
            <a:ext cx="84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70c0"/>
                </a:solidFill>
                <a:latin typeface="Arial"/>
              </a:rPr>
              <a:t>pontosabb, a valóságnak megfelelőbb eredmények érhetők el az algoritmus használatáv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églalap 8"/>
          <p:cNvSpPr/>
          <p:nvPr/>
        </p:nvSpPr>
        <p:spPr>
          <a:xfrm>
            <a:off x="165240" y="5278320"/>
            <a:ext cx="8362800" cy="12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lévő alkalmazások gyengeségei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belső területek ismeretének hiánya (jelen esetben az egyetemen belüli lehetséges mozgások)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tró létesítményeiben történő gyaloglási idők, a mozgólépcsőn töltött többletidő figyelmen kívül hagyása é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térő gyaloglási sebességek használata a gyaloglási idő számításán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1" name="Objektum 10"/>
          <p:cNvGraphicFramePr/>
          <p:nvPr/>
        </p:nvGraphicFramePr>
        <p:xfrm>
          <a:off x="600120" y="890640"/>
          <a:ext cx="5873760" cy="429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2" name="Objektum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0120" y="890640"/>
                    <a:ext cx="587376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Téglalap 29"/>
          <p:cNvSpPr/>
          <p:nvPr/>
        </p:nvSpPr>
        <p:spPr>
          <a:xfrm>
            <a:off x="6651720" y="2830680"/>
            <a:ext cx="19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űködés tesztelé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Csoportba foglalás 3"/>
          <p:cNvGrpSpPr/>
          <p:nvPr/>
        </p:nvGrpSpPr>
        <p:grpSpPr>
          <a:xfrm>
            <a:off x="1743120" y="204840"/>
            <a:ext cx="1420920" cy="337320"/>
            <a:chOff x="1743120" y="204840"/>
            <a:chExt cx="1420920" cy="337320"/>
          </a:xfrm>
        </p:grpSpPr>
        <p:sp>
          <p:nvSpPr>
            <p:cNvPr id="102" name="Sávnyíl 1"/>
            <p:cNvSpPr/>
            <p:nvPr/>
          </p:nvSpPr>
          <p:spPr>
            <a:xfrm>
              <a:off x="1743120" y="237960"/>
              <a:ext cx="1420920" cy="2732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Szövegdoboz 2"/>
            <p:cNvSpPr/>
            <p:nvPr/>
          </p:nvSpPr>
          <p:spPr>
            <a:xfrm>
              <a:off x="2249640" y="20484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1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Csoportba foglalás 4"/>
          <p:cNvGrpSpPr/>
          <p:nvPr/>
        </p:nvGrpSpPr>
        <p:grpSpPr>
          <a:xfrm>
            <a:off x="3076560" y="209520"/>
            <a:ext cx="1420920" cy="337320"/>
            <a:chOff x="3076560" y="209520"/>
            <a:chExt cx="1420920" cy="337320"/>
          </a:xfrm>
        </p:grpSpPr>
        <p:sp>
          <p:nvSpPr>
            <p:cNvPr id="105" name="Sávnyíl 7"/>
            <p:cNvSpPr/>
            <p:nvPr/>
          </p:nvSpPr>
          <p:spPr>
            <a:xfrm>
              <a:off x="3076560" y="233280"/>
              <a:ext cx="1420920" cy="2714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4" y="0"/>
                  </a:lnTo>
                  <a:lnTo>
                    <a:pt x="21600" y="10800"/>
                  </a:lnTo>
                  <a:lnTo>
                    <a:pt x="19534" y="21600"/>
                  </a:lnTo>
                  <a:lnTo>
                    <a:pt x="0" y="21600"/>
                  </a:lnTo>
                  <a:lnTo>
                    <a:pt x="2066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Szövegdoboz 8"/>
            <p:cNvSpPr/>
            <p:nvPr/>
          </p:nvSpPr>
          <p:spPr>
            <a:xfrm>
              <a:off x="3587760" y="20952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Csoportba foglalás 10"/>
          <p:cNvGrpSpPr/>
          <p:nvPr/>
        </p:nvGrpSpPr>
        <p:grpSpPr>
          <a:xfrm>
            <a:off x="4440240" y="212760"/>
            <a:ext cx="1420920" cy="337320"/>
            <a:chOff x="4440240" y="212760"/>
            <a:chExt cx="1420920" cy="337320"/>
          </a:xfrm>
        </p:grpSpPr>
        <p:sp>
          <p:nvSpPr>
            <p:cNvPr id="108" name="Sávnyíl 11"/>
            <p:cNvSpPr/>
            <p:nvPr/>
          </p:nvSpPr>
          <p:spPr>
            <a:xfrm>
              <a:off x="4440240" y="236520"/>
              <a:ext cx="1420920" cy="2732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Szövegdoboz 12"/>
            <p:cNvSpPr/>
            <p:nvPr/>
          </p:nvSpPr>
          <p:spPr>
            <a:xfrm>
              <a:off x="4951440" y="21276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Csoportba foglalás 13"/>
          <p:cNvGrpSpPr/>
          <p:nvPr/>
        </p:nvGrpSpPr>
        <p:grpSpPr>
          <a:xfrm>
            <a:off x="5799240" y="212760"/>
            <a:ext cx="1420560" cy="337320"/>
            <a:chOff x="5799240" y="212760"/>
            <a:chExt cx="1420560" cy="337320"/>
          </a:xfrm>
        </p:grpSpPr>
        <p:sp>
          <p:nvSpPr>
            <p:cNvPr id="111" name="Sávnyíl 14"/>
            <p:cNvSpPr/>
            <p:nvPr/>
          </p:nvSpPr>
          <p:spPr>
            <a:xfrm>
              <a:off x="5799240" y="236520"/>
              <a:ext cx="1420560" cy="27324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Szövegdoboz 16"/>
            <p:cNvSpPr/>
            <p:nvPr/>
          </p:nvSpPr>
          <p:spPr>
            <a:xfrm>
              <a:off x="6310440" y="21276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TextBox 4"/>
          <p:cNvSpPr/>
          <p:nvPr/>
        </p:nvSpPr>
        <p:spPr>
          <a:xfrm rot="16200000">
            <a:off x="5428440" y="3233880"/>
            <a:ext cx="703908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1. Bevezet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artalom helye 2"/>
          <p:cNvSpPr/>
          <p:nvPr/>
        </p:nvSpPr>
        <p:spPr>
          <a:xfrm>
            <a:off x="2525760" y="549360"/>
            <a:ext cx="598788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  <a:ea typeface="Arial"/>
              </a:rPr>
              <a:t>szervezett – nem szervezet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  <a:ea typeface="Arial"/>
              </a:rPr>
              <a:t>üzemeltetők és utazók közötti intenzív kétirányú információáramlá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  <a:ea typeface="Arial"/>
              </a:rPr>
              <a:t>helyváltoztatási láncok szervezése és lebonyolítása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  <a:ea typeface="Arial"/>
              </a:rPr>
              <a:t>információ – alapvető erőforrá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  <a:ea typeface="Arial"/>
              </a:rPr>
              <a:t>egyre kisebb ciklusidejű szabályozókörök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83"/>
          <p:cNvSpPr/>
          <p:nvPr/>
        </p:nvSpPr>
        <p:spPr>
          <a:xfrm>
            <a:off x="22320" y="4011480"/>
            <a:ext cx="1388880" cy="104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191919"/>
                </a:solidFill>
                <a:latin typeface="Arial"/>
                <a:ea typeface="Calibri"/>
              </a:rPr>
              <a:t>i</a:t>
            </a:r>
            <a:r>
              <a:rPr b="0" i="1" lang="de-DE" sz="1400" spc="-1" strike="noStrike">
                <a:solidFill>
                  <a:srgbClr val="191919"/>
                </a:solidFill>
                <a:latin typeface="Arial"/>
                <a:ea typeface="Calibri"/>
              </a:rPr>
              <a:t>nformációs folyamat visszahatá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83"/>
          <p:cNvSpPr/>
          <p:nvPr/>
        </p:nvSpPr>
        <p:spPr>
          <a:xfrm>
            <a:off x="6958080" y="4110120"/>
            <a:ext cx="1357200" cy="112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191919"/>
                </a:solidFill>
                <a:latin typeface="Arial"/>
                <a:ea typeface="Calibri"/>
              </a:rPr>
              <a:t>a</a:t>
            </a:r>
            <a:r>
              <a:rPr b="0" i="1" lang="de-DE" sz="1400" spc="-1" strike="noStrike">
                <a:solidFill>
                  <a:srgbClr val="191919"/>
                </a:solidFill>
                <a:latin typeface="Arial"/>
                <a:ea typeface="Calibri"/>
              </a:rPr>
              <a:t>lap</a:t>
            </a:r>
            <a:r>
              <a:rPr b="0" i="1" lang="hu-HU" sz="1400" spc="-1" strike="noStrike">
                <a:solidFill>
                  <a:srgbClr val="191919"/>
                </a:solidFill>
                <a:latin typeface="Arial"/>
                <a:ea typeface="Calibri"/>
              </a:rPr>
              <a:t>rendszer leképezé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AutoShape 52"/>
          <p:cNvSpPr/>
          <p:nvPr/>
        </p:nvSpPr>
        <p:spPr>
          <a:xfrm>
            <a:off x="1703520" y="5089680"/>
            <a:ext cx="4570200" cy="1152360"/>
          </a:xfrm>
          <a:prstGeom prst="parallelogram">
            <a:avLst>
              <a:gd name="adj" fmla="val 89638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53"/>
          <p:cNvSpPr/>
          <p:nvPr/>
        </p:nvSpPr>
        <p:spPr>
          <a:xfrm>
            <a:off x="5130720" y="5210280"/>
            <a:ext cx="533520" cy="239760"/>
          </a:xfrm>
          <a:custGeom>
            <a:avLst/>
            <a:gdLst>
              <a:gd name="textAreaLeft" fmla="*/ 121680 w 533520"/>
              <a:gd name="textAreaRight" fmla="*/ 411840 w 533520"/>
              <a:gd name="textAreaTop" fmla="*/ 54720 h 239760"/>
              <a:gd name="textAreaBottom" fmla="*/ 185040 h 239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54"/>
          <p:cNvSpPr/>
          <p:nvPr/>
        </p:nvSpPr>
        <p:spPr>
          <a:xfrm>
            <a:off x="5418000" y="4675320"/>
            <a:ext cx="648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55"/>
          <p:cNvSpPr/>
          <p:nvPr/>
        </p:nvSpPr>
        <p:spPr>
          <a:xfrm flipH="1">
            <a:off x="5208480" y="4888080"/>
            <a:ext cx="1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AutoShape 57"/>
          <p:cNvSpPr/>
          <p:nvPr/>
        </p:nvSpPr>
        <p:spPr>
          <a:xfrm>
            <a:off x="3300480" y="4079880"/>
            <a:ext cx="1380960" cy="762120"/>
          </a:xfrm>
          <a:prstGeom prst="cube">
            <a:avLst>
              <a:gd name="adj" fmla="val 25000"/>
            </a:avLst>
          </a:prstGeom>
          <a:solidFill>
            <a:srgbClr val="92d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333333"/>
                </a:solidFill>
                <a:latin typeface="Arial"/>
                <a:ea typeface="Calibri"/>
              </a:rPr>
              <a:t>i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  <a:ea typeface="Calibri"/>
              </a:rPr>
              <a:t>nformációs végberendezé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63"/>
          <p:cNvSpPr/>
          <p:nvPr/>
        </p:nvSpPr>
        <p:spPr>
          <a:xfrm>
            <a:off x="4089240" y="3701880"/>
            <a:ext cx="0" cy="37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64"/>
          <p:cNvSpPr/>
          <p:nvPr/>
        </p:nvSpPr>
        <p:spPr>
          <a:xfrm flipH="1">
            <a:off x="5316120" y="4888080"/>
            <a:ext cx="103320" cy="42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65"/>
          <p:cNvSpPr/>
          <p:nvPr/>
        </p:nvSpPr>
        <p:spPr>
          <a:xfrm>
            <a:off x="5419800" y="4888080"/>
            <a:ext cx="106200" cy="42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Line 66"/>
          <p:cNvSpPr/>
          <p:nvPr/>
        </p:nvSpPr>
        <p:spPr>
          <a:xfrm flipH="1">
            <a:off x="5208480" y="5310360"/>
            <a:ext cx="1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Line 67"/>
          <p:cNvSpPr/>
          <p:nvPr/>
        </p:nvSpPr>
        <p:spPr>
          <a:xfrm flipH="1">
            <a:off x="5419440" y="5310360"/>
            <a:ext cx="106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Line 68"/>
          <p:cNvSpPr/>
          <p:nvPr/>
        </p:nvSpPr>
        <p:spPr>
          <a:xfrm>
            <a:off x="5419800" y="4675320"/>
            <a:ext cx="10620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Line 69"/>
          <p:cNvSpPr/>
          <p:nvPr/>
        </p:nvSpPr>
        <p:spPr>
          <a:xfrm flipH="1">
            <a:off x="5419440" y="4888080"/>
            <a:ext cx="106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Line 70"/>
          <p:cNvSpPr/>
          <p:nvPr/>
        </p:nvSpPr>
        <p:spPr>
          <a:xfrm flipH="1">
            <a:off x="5316120" y="4675320"/>
            <a:ext cx="10332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AutoShape 71"/>
          <p:cNvSpPr/>
          <p:nvPr/>
        </p:nvSpPr>
        <p:spPr>
          <a:xfrm>
            <a:off x="5316480" y="4462560"/>
            <a:ext cx="209520" cy="2127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AutoShape 72"/>
          <p:cNvSpPr/>
          <p:nvPr/>
        </p:nvSpPr>
        <p:spPr>
          <a:xfrm rot="647400">
            <a:off x="4681080" y="4361040"/>
            <a:ext cx="606600" cy="214200"/>
          </a:xfrm>
          <a:prstGeom prst="leftRightArrow">
            <a:avLst>
              <a:gd name="adj1" fmla="val 50000"/>
              <a:gd name="adj2" fmla="val 68805"/>
            </a:avLst>
          </a:prstGeom>
          <a:solidFill>
            <a:srgbClr val="5789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AutoShape 73"/>
          <p:cNvSpPr/>
          <p:nvPr/>
        </p:nvSpPr>
        <p:spPr>
          <a:xfrm>
            <a:off x="3740040" y="5210280"/>
            <a:ext cx="568440" cy="239760"/>
          </a:xfrm>
          <a:custGeom>
            <a:avLst/>
            <a:gdLst>
              <a:gd name="textAreaLeft" fmla="*/ 129600 w 568440"/>
              <a:gd name="textAreaRight" fmla="*/ 438840 w 568440"/>
              <a:gd name="textAreaTop" fmla="*/ 54720 h 239760"/>
              <a:gd name="textAreaBottom" fmla="*/ 185040 h 239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AutoShape 74"/>
          <p:cNvSpPr/>
          <p:nvPr/>
        </p:nvSpPr>
        <p:spPr>
          <a:xfrm>
            <a:off x="4361040" y="5834160"/>
            <a:ext cx="514080" cy="249120"/>
          </a:xfrm>
          <a:custGeom>
            <a:avLst/>
            <a:gdLst>
              <a:gd name="textAreaLeft" fmla="*/ 117360 w 514080"/>
              <a:gd name="textAreaRight" fmla="*/ 396720 w 514080"/>
              <a:gd name="textAreaTop" fmla="*/ 56880 h 249120"/>
              <a:gd name="textAreaBottom" fmla="*/ 192240 h 249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AutoShape 75"/>
          <p:cNvSpPr/>
          <p:nvPr/>
        </p:nvSpPr>
        <p:spPr>
          <a:xfrm>
            <a:off x="2397240" y="5310360"/>
            <a:ext cx="477720" cy="241200"/>
          </a:xfrm>
          <a:custGeom>
            <a:avLst/>
            <a:gdLst>
              <a:gd name="textAreaLeft" fmla="*/ 109080 w 477720"/>
              <a:gd name="textAreaRight" fmla="*/ 368640 w 477720"/>
              <a:gd name="textAreaTop" fmla="*/ 55080 h 241200"/>
              <a:gd name="textAreaBottom" fmla="*/ 18612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AutoShape 76"/>
          <p:cNvSpPr/>
          <p:nvPr/>
        </p:nvSpPr>
        <p:spPr>
          <a:xfrm>
            <a:off x="2467080" y="5937120"/>
            <a:ext cx="441360" cy="292320"/>
          </a:xfrm>
          <a:custGeom>
            <a:avLst/>
            <a:gdLst>
              <a:gd name="textAreaLeft" fmla="*/ 100800 w 441360"/>
              <a:gd name="textAreaRight" fmla="*/ 340560 w 441360"/>
              <a:gd name="textAreaTop" fmla="*/ 66600 h 292320"/>
              <a:gd name="textAreaBottom" fmla="*/ 22572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AutoShape 78"/>
          <p:cNvCxnSpPr/>
          <p:nvPr/>
        </p:nvCxnSpPr>
        <p:spPr>
          <a:xfrm flipH="1">
            <a:off x="4308120" y="5311800"/>
            <a:ext cx="900720" cy="1800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37" name="AutoShape 79"/>
          <p:cNvCxnSpPr/>
          <p:nvPr/>
        </p:nvCxnSpPr>
        <p:spPr>
          <a:xfrm>
            <a:off x="4024080" y="5449680"/>
            <a:ext cx="594360" cy="38484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38" name="AutoShape 80"/>
          <p:cNvCxnSpPr/>
          <p:nvPr/>
        </p:nvCxnSpPr>
        <p:spPr>
          <a:xfrm flipH="1" flipV="1">
            <a:off x="2874600" y="5430600"/>
            <a:ext cx="1486800" cy="52776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39" name="AutoShape 81"/>
          <p:cNvCxnSpPr/>
          <p:nvPr/>
        </p:nvCxnSpPr>
        <p:spPr>
          <a:xfrm>
            <a:off x="2633760" y="5551200"/>
            <a:ext cx="56160" cy="38628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40" name="AutoShape 56"/>
          <p:cNvSpPr/>
          <p:nvPr/>
        </p:nvSpPr>
        <p:spPr>
          <a:xfrm>
            <a:off x="1704960" y="2662200"/>
            <a:ext cx="4572000" cy="1060560"/>
          </a:xfrm>
          <a:prstGeom prst="parallelogram">
            <a:avLst>
              <a:gd name="adj" fmla="val 96517"/>
            </a:avLst>
          </a:prstGeom>
          <a:solidFill>
            <a:srgbClr val="92d05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49"/>
          <p:cNvSpPr/>
          <p:nvPr/>
        </p:nvSpPr>
        <p:spPr>
          <a:xfrm>
            <a:off x="1606680" y="1989000"/>
            <a:ext cx="47718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191919"/>
                </a:solidFill>
                <a:latin typeface="Arial"/>
                <a:ea typeface="Calibri"/>
              </a:rPr>
              <a:t>Telematikai alrendszer</a:t>
            </a:r>
            <a:br>
              <a:rPr sz="1600"/>
            </a:br>
            <a:r>
              <a:rPr b="1" lang="hu-HU" sz="1600" spc="-1" strike="noStrike">
                <a:solidFill>
                  <a:srgbClr val="191919"/>
                </a:solidFill>
                <a:latin typeface="Arial"/>
                <a:ea typeface="Calibri"/>
              </a:rPr>
              <a:t> – </a:t>
            </a:r>
            <a:r>
              <a:rPr b="0" lang="hu-HU" sz="1600" spc="-1" strike="noStrike">
                <a:solidFill>
                  <a:srgbClr val="191919"/>
                </a:solidFill>
                <a:latin typeface="Arial"/>
                <a:ea typeface="Calibri"/>
              </a:rPr>
              <a:t>számítógép hálózat és adattovábbítás</a:t>
            </a:r>
            <a:r>
              <a:rPr b="0" lang="de-DE" sz="1600" spc="-1" strike="noStrike">
                <a:solidFill>
                  <a:srgbClr val="191919"/>
                </a:solidFill>
                <a:latin typeface="Arial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2" name="Szögletes összekötő 7180"/>
          <p:cNvCxnSpPr/>
          <p:nvPr/>
        </p:nvCxnSpPr>
        <p:spPr>
          <a:xfrm rot="10800000">
            <a:off x="2907720" y="4461840"/>
            <a:ext cx="2223000" cy="16092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143" name="Egyenes összekötő nyíllal 7182"/>
          <p:cNvCxnSpPr/>
          <p:nvPr/>
        </p:nvCxnSpPr>
        <p:spPr>
          <a:xfrm>
            <a:off x="8667720" y="2133360"/>
            <a:ext cx="8640" cy="4323240"/>
          </a:xfrm>
          <a:prstGeom prst="straightConnector1">
            <a:avLst/>
          </a:prstGeom>
          <a:ln w="25560">
            <a:solidFill>
              <a:srgbClr val="191919"/>
            </a:solidFill>
            <a:miter/>
            <a:headEnd len="med" type="oval" w="med"/>
            <a:tailEnd len="med" type="oval" w="med"/>
          </a:ln>
        </p:spPr>
      </p:cxnSp>
      <p:sp>
        <p:nvSpPr>
          <p:cNvPr id="144" name="Szövegdoboz 7185"/>
          <p:cNvSpPr/>
          <p:nvPr/>
        </p:nvSpPr>
        <p:spPr>
          <a:xfrm rot="16200000">
            <a:off x="6013080" y="401508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191919"/>
                </a:solidFill>
                <a:latin typeface="Arial"/>
              </a:rPr>
              <a:t>KÖZLEKEDÉSI REN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Egyenes összekötő 47"/>
          <p:cNvSpPr/>
          <p:nvPr/>
        </p:nvSpPr>
        <p:spPr>
          <a:xfrm flipH="1">
            <a:off x="1452600" y="3083040"/>
            <a:ext cx="874800" cy="3240"/>
          </a:xfrm>
          <a:prstGeom prst="line">
            <a:avLst/>
          </a:prstGeom>
          <a:ln w="19080">
            <a:solidFill>
              <a:srgbClr val="1919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gyenes összekötő 48"/>
          <p:cNvSpPr/>
          <p:nvPr/>
        </p:nvSpPr>
        <p:spPr>
          <a:xfrm>
            <a:off x="1452600" y="3083040"/>
            <a:ext cx="0" cy="2582640"/>
          </a:xfrm>
          <a:prstGeom prst="line">
            <a:avLst/>
          </a:prstGeom>
          <a:ln w="19080">
            <a:solidFill>
              <a:srgbClr val="1919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7" name="Egyenes összekötő nyíllal 49"/>
          <p:cNvCxnSpPr>
            <a:endCxn id="117" idx="5"/>
          </p:cNvCxnSpPr>
          <p:nvPr/>
        </p:nvCxnSpPr>
        <p:spPr>
          <a:xfrm flipV="1">
            <a:off x="1452240" y="5665320"/>
            <a:ext cx="786600" cy="15120"/>
          </a:xfrm>
          <a:prstGeom prst="straightConnector1">
            <a:avLst/>
          </a:prstGeom>
          <a:ln w="19080">
            <a:solidFill>
              <a:srgbClr val="191919"/>
            </a:solidFill>
            <a:prstDash val="sysDot"/>
            <a:miter/>
            <a:tailEnd len="lg" type="triangle" w="lg"/>
          </a:ln>
        </p:spPr>
      </p:cxnSp>
      <p:sp>
        <p:nvSpPr>
          <p:cNvPr id="148" name="Egyenes összekötő 50"/>
          <p:cNvSpPr/>
          <p:nvPr/>
        </p:nvSpPr>
        <p:spPr>
          <a:xfrm flipH="1" flipV="1">
            <a:off x="5738400" y="5665680"/>
            <a:ext cx="1243080" cy="14400"/>
          </a:xfrm>
          <a:prstGeom prst="line">
            <a:avLst/>
          </a:prstGeom>
          <a:ln w="19080">
            <a:solidFill>
              <a:srgbClr val="1919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Egyenes összekötő 51"/>
          <p:cNvSpPr/>
          <p:nvPr/>
        </p:nvSpPr>
        <p:spPr>
          <a:xfrm>
            <a:off x="6981840" y="3098880"/>
            <a:ext cx="0" cy="2581200"/>
          </a:xfrm>
          <a:prstGeom prst="line">
            <a:avLst/>
          </a:prstGeom>
          <a:ln w="19080">
            <a:solidFill>
              <a:srgbClr val="1919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0" name="Egyenes összekötő nyíllal 52"/>
          <p:cNvCxnSpPr/>
          <p:nvPr/>
        </p:nvCxnSpPr>
        <p:spPr>
          <a:xfrm flipH="1">
            <a:off x="5866920" y="3098520"/>
            <a:ext cx="1115280" cy="1080"/>
          </a:xfrm>
          <a:prstGeom prst="straightConnector1">
            <a:avLst/>
          </a:prstGeom>
          <a:ln w="19080">
            <a:solidFill>
              <a:srgbClr val="191919"/>
            </a:solidFill>
            <a:prstDash val="sysDot"/>
            <a:miter/>
            <a:tailEnd len="lg" type="triangle" w="lg"/>
          </a:ln>
        </p:spPr>
      </p:cxnSp>
      <p:sp>
        <p:nvSpPr>
          <p:cNvPr id="151" name="Felhő 30"/>
          <p:cNvSpPr/>
          <p:nvPr/>
        </p:nvSpPr>
        <p:spPr>
          <a:xfrm>
            <a:off x="5934240" y="3311640"/>
            <a:ext cx="922320" cy="988920"/>
          </a:xfrm>
          <a:prstGeom prst="cloudCallout">
            <a:avLst>
              <a:gd name="adj1" fmla="val -99555"/>
              <a:gd name="adj2" fmla="val 64949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zövegdoboz 54"/>
          <p:cNvSpPr/>
          <p:nvPr/>
        </p:nvSpPr>
        <p:spPr>
          <a:xfrm>
            <a:off x="5929200" y="3459240"/>
            <a:ext cx="903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100" spc="-1" strike="noStrike">
                <a:solidFill>
                  <a:srgbClr val="191919"/>
                </a:solidFill>
                <a:latin typeface="Arial"/>
              </a:rPr>
              <a:t>hogyan közleked-jünk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olyamatábra: Mágneslemez 55"/>
          <p:cNvSpPr/>
          <p:nvPr/>
        </p:nvSpPr>
        <p:spPr>
          <a:xfrm>
            <a:off x="2908440" y="2911320"/>
            <a:ext cx="220680" cy="27972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olyamatábra: Mágneslemez 56"/>
          <p:cNvSpPr/>
          <p:nvPr/>
        </p:nvSpPr>
        <p:spPr>
          <a:xfrm>
            <a:off x="4037040" y="2819520"/>
            <a:ext cx="220680" cy="28080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olyamatábra: Mágneslemez 57"/>
          <p:cNvSpPr/>
          <p:nvPr/>
        </p:nvSpPr>
        <p:spPr>
          <a:xfrm>
            <a:off x="4681440" y="2813040"/>
            <a:ext cx="222480" cy="28116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olyamatábra: Mágneslemez 58"/>
          <p:cNvSpPr/>
          <p:nvPr/>
        </p:nvSpPr>
        <p:spPr>
          <a:xfrm>
            <a:off x="3352680" y="3298680"/>
            <a:ext cx="220680" cy="27972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olyamatábra: Mágneslemez 59"/>
          <p:cNvSpPr/>
          <p:nvPr/>
        </p:nvSpPr>
        <p:spPr>
          <a:xfrm>
            <a:off x="4100400" y="3344760"/>
            <a:ext cx="220680" cy="28116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olyamatábra: Mágneslemez 60"/>
          <p:cNvSpPr/>
          <p:nvPr/>
        </p:nvSpPr>
        <p:spPr>
          <a:xfrm>
            <a:off x="5245200" y="3048120"/>
            <a:ext cx="220680" cy="28080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gyenes összekötő 61"/>
          <p:cNvSpPr/>
          <p:nvPr/>
        </p:nvSpPr>
        <p:spPr>
          <a:xfrm flipV="1">
            <a:off x="3129120" y="2960280"/>
            <a:ext cx="907920" cy="90360"/>
          </a:xfrm>
          <a:prstGeom prst="line">
            <a:avLst/>
          </a:prstGeom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Egyenes összekötő 62"/>
          <p:cNvSpPr/>
          <p:nvPr/>
        </p:nvSpPr>
        <p:spPr>
          <a:xfrm flipV="1">
            <a:off x="4321080" y="3094200"/>
            <a:ext cx="473040" cy="390240"/>
          </a:xfrm>
          <a:prstGeom prst="line">
            <a:avLst/>
          </a:prstGeom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Egyenes összekötő 63"/>
          <p:cNvSpPr/>
          <p:nvPr/>
        </p:nvSpPr>
        <p:spPr>
          <a:xfrm>
            <a:off x="4145040" y="3100320"/>
            <a:ext cx="66600" cy="244440"/>
          </a:xfrm>
          <a:prstGeom prst="line">
            <a:avLst/>
          </a:prstGeom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gyenes összekötő 64"/>
          <p:cNvSpPr/>
          <p:nvPr/>
        </p:nvSpPr>
        <p:spPr>
          <a:xfrm>
            <a:off x="4903920" y="3051000"/>
            <a:ext cx="341280" cy="136800"/>
          </a:xfrm>
          <a:prstGeom prst="line">
            <a:avLst/>
          </a:prstGeom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gyenes összekötő 65"/>
          <p:cNvSpPr/>
          <p:nvPr/>
        </p:nvSpPr>
        <p:spPr>
          <a:xfrm flipH="1">
            <a:off x="3581280" y="3484440"/>
            <a:ext cx="519120" cy="0"/>
          </a:xfrm>
          <a:prstGeom prst="line">
            <a:avLst/>
          </a:prstGeom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235080" y="1219320"/>
            <a:ext cx="207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a50021"/>
                </a:solidFill>
                <a:latin typeface="Arial"/>
              </a:rPr>
              <a:t>áramlási ter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églalap 19"/>
          <p:cNvSpPr/>
          <p:nvPr/>
        </p:nvSpPr>
        <p:spPr>
          <a:xfrm>
            <a:off x="-779400" y="6483240"/>
            <a:ext cx="549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személyközlekedési rendszer szerkeze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églalap 1"/>
          <p:cNvSpPr/>
          <p:nvPr/>
        </p:nvSpPr>
        <p:spPr>
          <a:xfrm>
            <a:off x="3780000" y="6251400"/>
            <a:ext cx="4925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Forrás: Válóczi Dénes - Csiszár Csaba:  Telematikai rendszerekkel támogatott intermodális csomópontok.</a:t>
            </a:r>
            <a:br>
              <a:rPr sz="1200"/>
            </a:b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Városi Közlekedés. LI. évf. 3-4.szám 207-214.o. Budapest,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tvonal értékelő eljárás személyre szabott utastájékoztatásho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61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620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22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6" name="Téglalap 8" descr=""/>
          <p:cNvPicPr/>
          <p:nvPr/>
        </p:nvPicPr>
        <p:blipFill>
          <a:blip r:embed="rId3"/>
          <a:stretch/>
        </p:blipFill>
        <p:spPr>
          <a:xfrm>
            <a:off x="165240" y="1474920"/>
            <a:ext cx="8362800" cy="68868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1"/>
          <p:cNvSpPr/>
          <p:nvPr/>
        </p:nvSpPr>
        <p:spPr>
          <a:xfrm>
            <a:off x="208080" y="836640"/>
            <a:ext cx="843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izikai jellemzőktől és a személyes preferenciáktól függő, időben változó közösségi közlekedési hálózati gráf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9" name="Objektum 4" descr=""/>
          <p:cNvPicPr/>
          <p:nvPr/>
        </p:nvPicPr>
        <p:blipFill>
          <a:blip r:embed="rId4"/>
          <a:stretch/>
        </p:blipFill>
        <p:spPr>
          <a:xfrm>
            <a:off x="5383080" y="2124000"/>
            <a:ext cx="3402000" cy="1405080"/>
          </a:xfrm>
          <a:prstGeom prst="rect">
            <a:avLst/>
          </a:prstGeom>
          <a:ln w="0">
            <a:noFill/>
          </a:ln>
        </p:spPr>
      </p:pic>
      <p:pic>
        <p:nvPicPr>
          <p:cNvPr id="630" name="Szövegdoboz 6" descr=""/>
          <p:cNvPicPr/>
          <p:nvPr/>
        </p:nvPicPr>
        <p:blipFill>
          <a:blip r:embed="rId5"/>
          <a:stretch/>
        </p:blipFill>
        <p:spPr>
          <a:xfrm>
            <a:off x="328680" y="2279520"/>
            <a:ext cx="3882960" cy="1427400"/>
          </a:xfrm>
          <a:prstGeom prst="rect">
            <a:avLst/>
          </a:prstGeom>
          <a:ln w="0">
            <a:noFill/>
          </a:ln>
        </p:spPr>
      </p:pic>
      <p:sp>
        <p:nvSpPr>
          <p:cNvPr id="631" name="Téglalap 8"/>
          <p:cNvSpPr/>
          <p:nvPr/>
        </p:nvSpPr>
        <p:spPr>
          <a:xfrm>
            <a:off x="88920" y="3429000"/>
            <a:ext cx="836280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Hálózati modell építése - részgráfok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Makro: közösségi közlekedési hálózat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Mezo: átszállási helyek, intermodális csomópontok gyalogos hálózat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Mikro: utasforgalmi létesítmények belső hálózat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gyaloglás mind a mezo, mind a mikro gráfban is megtalálhat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várakozási idő hozzárendelése - csúcsho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00000"/>
                </a:solidFill>
                <a:latin typeface="Calibri"/>
              </a:rPr>
              <a:t>A csúcsok, élek és azok tulajdonságainak modellez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00000"/>
                </a:solidFill>
                <a:latin typeface="Calibri"/>
              </a:rPr>
              <a:t>Többszintű gráf – a különböző személyközlekedési</a:t>
            </a:r>
            <a:br>
              <a:rPr sz="1600"/>
            </a:br>
            <a:r>
              <a:rPr b="1" lang="hu-HU" sz="1600" spc="-1" strike="noStrike">
                <a:solidFill>
                  <a:srgbClr val="c00000"/>
                </a:solidFill>
                <a:latin typeface="Calibri"/>
              </a:rPr>
              <a:t>módokra kiterjeszt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00000"/>
                </a:solidFill>
                <a:latin typeface="Calibri"/>
              </a:rPr>
              <a:t>Dinamizmus – a gráf elemei és az elemek tulajdonságai</a:t>
            </a:r>
            <a:br>
              <a:rPr sz="1600"/>
            </a:br>
            <a:r>
              <a:rPr b="1" lang="hu-HU" sz="1600" spc="-1" strike="noStrike">
                <a:solidFill>
                  <a:srgbClr val="c00000"/>
                </a:solidFill>
                <a:latin typeface="Calibri"/>
              </a:rPr>
              <a:t> is változnak az idő függvényéb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5700600" y="4869000"/>
          <a:ext cx="2827440" cy="1627200"/>
        </p:xfrm>
        <a:graphic>
          <a:graphicData uri="http://schemas.openxmlformats.org/drawingml/2006/table">
            <a:tbl>
              <a:tblPr/>
              <a:tblGrid>
                <a:gridCol w="685800"/>
                <a:gridCol w="714600"/>
                <a:gridCol w="712800"/>
                <a:gridCol w="714240"/>
              </a:tblGrid>
              <a:tr h="395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k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z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k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z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Object 2" descr=""/>
          <p:cNvPicPr/>
          <p:nvPr/>
        </p:nvPicPr>
        <p:blipFill>
          <a:blip r:embed="rId1"/>
          <a:stretch/>
        </p:blipFill>
        <p:spPr>
          <a:xfrm>
            <a:off x="250920" y="520560"/>
            <a:ext cx="8497800" cy="633276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tvonal értékelő eljárás személyre szabott utastájékoztatáshoz -  hálózati grá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7" name="Csoportba foglalás 23" descr=""/>
          <p:cNvPicPr/>
          <p:nvPr/>
        </p:nvPicPr>
        <p:blipFill>
          <a:blip r:embed="rId2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63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640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42" name="Csoportba foglalás 26" descr=""/>
          <p:cNvPicPr/>
          <p:nvPr/>
        </p:nvPicPr>
        <p:blipFill>
          <a:blip r:embed="rId3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arsharing rendszerek szolgáltatási minőségét elemző és értékelő mó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0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651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2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653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55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églalap 8"/>
          <p:cNvSpPr/>
          <p:nvPr/>
        </p:nvSpPr>
        <p:spPr>
          <a:xfrm>
            <a:off x="88920" y="1052640"/>
            <a:ext cx="836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Utazók hosszú távú döntéseinek befolyásolás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2" name="Object 2"/>
          <p:cNvGraphicFramePr/>
          <p:nvPr/>
        </p:nvGraphicFramePr>
        <p:xfrm>
          <a:off x="-1476360" y="1484280"/>
          <a:ext cx="7632720" cy="481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476360" y="1484280"/>
                    <a:ext cx="763272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4" name="Rectangle 3"/>
          <p:cNvSpPr/>
          <p:nvPr/>
        </p:nvSpPr>
        <p:spPr>
          <a:xfrm>
            <a:off x="-828720" y="62596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Személygépkocsik kapacitás kihasználás növelésének módja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églalap 8"/>
          <p:cNvSpPr/>
          <p:nvPr/>
        </p:nvSpPr>
        <p:spPr>
          <a:xfrm>
            <a:off x="4695840" y="2492280"/>
            <a:ext cx="4340160" cy="29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egy új rendszer bevezetése (meglévő bővítése)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utazási igény modell (eszközválasztás modellezése)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telepítési helyszínek megválasztásának módszere (a bővítés fokozatossága)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járműpark meghatározásának módszer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a szolgáltatási jellemzők meghatározásának módszer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üzleti model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arsharing rendszerek szolgáltatási minőségét elemző és értékelő mó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670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672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églalap 8"/>
          <p:cNvSpPr/>
          <p:nvPr/>
        </p:nvSpPr>
        <p:spPr>
          <a:xfrm>
            <a:off x="5848200" y="1052640"/>
            <a:ext cx="294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ompenzált multikritériumos elemző és értékelő mó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2" name="Object 4"/>
          <p:cNvGraphicFramePr/>
          <p:nvPr/>
        </p:nvGraphicFramePr>
        <p:xfrm>
          <a:off x="-166680" y="977760"/>
          <a:ext cx="6610320" cy="588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66680" y="977760"/>
                    <a:ext cx="6610320" cy="588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4" name="Rectangle 5"/>
          <p:cNvSpPr/>
          <p:nvPr/>
        </p:nvSpPr>
        <p:spPr>
          <a:xfrm>
            <a:off x="4788000" y="5068800"/>
            <a:ext cx="4211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A. az egyes felhasználók preferenciáinak ismerete nélkül, az egyes városrészekre vonatkozóan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(házszám pontosságga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B. az előzőt kiegészítve az egyes felhasználók preferenciáinak és tartózkodási helyének ismeretében személyre szabot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arsharing rendszerek szolgáltatási minőségét elemző és értékelő mó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8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689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0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691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93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6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1" name="Object 7"/>
          <p:cNvGraphicFramePr/>
          <p:nvPr/>
        </p:nvGraphicFramePr>
        <p:xfrm>
          <a:off x="304920" y="1197000"/>
          <a:ext cx="7146720" cy="554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197000"/>
                    <a:ext cx="714672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Rectangle 8"/>
          <p:cNvSpPr/>
          <p:nvPr/>
        </p:nvSpPr>
        <p:spPr>
          <a:xfrm>
            <a:off x="179280" y="630072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kiszolgálási minőséghez tartozó ismérvek hatása az elvárásokra és a kapcsolat erőssé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arsharing rendszerek szolgáltatási minőségét elemző és értékelő mó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70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710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12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7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Rectangle 8"/>
          <p:cNvSpPr/>
          <p:nvPr/>
        </p:nvSpPr>
        <p:spPr>
          <a:xfrm>
            <a:off x="179280" y="907920"/>
            <a:ext cx="84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módszertan alkalmazása Budapes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Kép 7" descr=""/>
          <p:cNvPicPr/>
          <p:nvPr/>
        </p:nvPicPr>
        <p:blipFill>
          <a:blip r:embed="rId3"/>
          <a:stretch/>
        </p:blipFill>
        <p:spPr>
          <a:xfrm>
            <a:off x="1598760" y="1278000"/>
            <a:ext cx="5494320" cy="423864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1"/>
          <p:cNvSpPr/>
          <p:nvPr/>
        </p:nvSpPr>
        <p:spPr>
          <a:xfrm>
            <a:off x="806400" y="5661000"/>
            <a:ext cx="743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Q értékének változása a térben a vizsgált területen, középen az állomáss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églalap 8"/>
          <p:cNvSpPr/>
          <p:nvPr/>
        </p:nvSpPr>
        <p:spPr>
          <a:xfrm>
            <a:off x="385920" y="6330960"/>
            <a:ext cx="836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00000"/>
                </a:solidFill>
                <a:latin typeface="Arial"/>
              </a:rPr>
              <a:t>Térben, időben és személyenként változó érzékelt szolgáltatási minősé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4. Kutatás folytatá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ávnyíl 17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7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72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730" name="Sávnyíl 2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2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733" name="Sávnyíl 2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5" name="Tartalom helye 2"/>
          <p:cNvSpPr/>
          <p:nvPr/>
        </p:nvSpPr>
        <p:spPr>
          <a:xfrm>
            <a:off x="109440" y="620640"/>
            <a:ext cx="850752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datforrás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parkoló létesítmények real-time kihasználtsági adata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ódsz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perációkutatási módszer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ptimalizálási módszer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döntés-előkészítő módszer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datbányászati módszer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datmodellezés módszerek – formális leíró nyelvek, ontológ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esterséges intelligencia módszerek </a:t>
            </a:r>
            <a:r>
              <a:rPr b="0" i="1" lang="hu-HU" sz="1600" spc="-1" strike="noStrike">
                <a:solidFill>
                  <a:srgbClr val="000000"/>
                </a:solidFill>
                <a:latin typeface="Calibri"/>
                <a:ea typeface="Calibri"/>
              </a:rPr>
              <a:t>ember-gépi ren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daptive (alkalmazkod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learning (tanul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cognitive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Calibri"/>
              </a:rPr>
              <a:t> (megismerő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özgazdasági elemző módszer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utatási partner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ME – VIK, Hálózati Rendszerek és Szolgáltatások Tanszé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ME – TTK, Matematika Intézet, Differenciálegyenletek Tanszék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4. Kutatás folytatá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Sávnyíl 17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740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1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742" name="Sávnyíl 2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4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745" name="Sávnyíl 2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7" name="Tartalom helye 2"/>
          <p:cNvSpPr/>
          <p:nvPr/>
        </p:nvSpPr>
        <p:spPr>
          <a:xfrm>
            <a:off x="108000" y="1413000"/>
            <a:ext cx="884232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Személyközlekedési hálózati modell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építés folytatása -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függvények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eghatároz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különös tekintettel az intermodális csomópontokra és parkolókr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elyváltoztatási döntések modellezése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a közlekedési hálózat, a helyváltoztatási módok és a személyes jellemzők analízise alapj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ülönböző időtávú döntések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álózatmenedzsment intézkedések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egfogalmaz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forgalmi és információs műveletek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églalap 1"/>
          <p:cNvSpPr/>
          <p:nvPr/>
        </p:nvSpPr>
        <p:spPr>
          <a:xfrm>
            <a:off x="108000" y="5157720"/>
            <a:ext cx="8928000" cy="11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személyközlekedési komplex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nformációs rendszer elemzési, értékelési módszer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ének kidolgoz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600" spc="-1" strike="noStrike">
                <a:solidFill>
                  <a:srgbClr val="376092"/>
                </a:solidFill>
                <a:latin typeface="Arial"/>
              </a:rPr>
              <a:t>cél, funkció, szervezet, alrendszer, adat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özötti kapcsolatrendszer feltárása, 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         modellezés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9" name="Object 2"/>
          <p:cNvGraphicFramePr/>
          <p:nvPr/>
        </p:nvGraphicFramePr>
        <p:xfrm>
          <a:off x="839880" y="2637000"/>
          <a:ext cx="7388280" cy="510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2637000"/>
                    <a:ext cx="738828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1" name="Text Box 3"/>
          <p:cNvSpPr/>
          <p:nvPr/>
        </p:nvSpPr>
        <p:spPr>
          <a:xfrm>
            <a:off x="152280" y="1989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3399"/>
                </a:solidFill>
                <a:latin typeface="Calibri"/>
              </a:rPr>
              <a:t>KÖSZÖNÖM A MEGTISZTELŐ FIGYELMET </a:t>
            </a:r>
            <a:r>
              <a:rPr b="0" lang="en-US" sz="3600" spc="-1" strike="noStrike">
                <a:solidFill>
                  <a:srgbClr val="003399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artalom helye 2"/>
          <p:cNvSpPr/>
          <p:nvPr/>
        </p:nvSpPr>
        <p:spPr>
          <a:xfrm>
            <a:off x="539640" y="1052640"/>
            <a:ext cx="8075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TÁMOP-4.2.2.C-11/1/KONV-2012-0012: "Smarter Transport" - Kooperatív közlekedési rendszerek infokommunikációs támogatása - A projekt a Magyar Állam és az Európai Unió támogatásával, az Európai Szociális Alap társfinanszírozásával valósul meg.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 Box 4"/>
          <p:cNvSpPr/>
          <p:nvPr/>
        </p:nvSpPr>
        <p:spPr>
          <a:xfrm>
            <a:off x="152280" y="404640"/>
            <a:ext cx="888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a50021"/>
                </a:solidFill>
                <a:latin typeface="Arial"/>
              </a:rPr>
              <a:t>Köszönetnyilvání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Csoportba foglalás 3"/>
          <p:cNvGrpSpPr/>
          <p:nvPr/>
        </p:nvGrpSpPr>
        <p:grpSpPr>
          <a:xfrm>
            <a:off x="1743120" y="204840"/>
            <a:ext cx="1420920" cy="337320"/>
            <a:chOff x="1743120" y="204840"/>
            <a:chExt cx="1420920" cy="337320"/>
          </a:xfrm>
        </p:grpSpPr>
        <p:sp>
          <p:nvSpPr>
            <p:cNvPr id="168" name="Sávnyíl 1"/>
            <p:cNvSpPr/>
            <p:nvPr/>
          </p:nvSpPr>
          <p:spPr>
            <a:xfrm>
              <a:off x="1743120" y="237960"/>
              <a:ext cx="1420920" cy="2732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Szövegdoboz 2"/>
            <p:cNvSpPr/>
            <p:nvPr/>
          </p:nvSpPr>
          <p:spPr>
            <a:xfrm>
              <a:off x="2249640" y="20484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1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Csoportba foglalás 4"/>
          <p:cNvGrpSpPr/>
          <p:nvPr/>
        </p:nvGrpSpPr>
        <p:grpSpPr>
          <a:xfrm>
            <a:off x="3076560" y="209520"/>
            <a:ext cx="1420920" cy="337320"/>
            <a:chOff x="3076560" y="209520"/>
            <a:chExt cx="1420920" cy="337320"/>
          </a:xfrm>
        </p:grpSpPr>
        <p:sp>
          <p:nvSpPr>
            <p:cNvPr id="171" name="Sávnyíl 7"/>
            <p:cNvSpPr/>
            <p:nvPr/>
          </p:nvSpPr>
          <p:spPr>
            <a:xfrm>
              <a:off x="3076560" y="233280"/>
              <a:ext cx="1420920" cy="2714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4" y="0"/>
                  </a:lnTo>
                  <a:lnTo>
                    <a:pt x="21600" y="10800"/>
                  </a:lnTo>
                  <a:lnTo>
                    <a:pt x="19534" y="21600"/>
                  </a:lnTo>
                  <a:lnTo>
                    <a:pt x="0" y="21600"/>
                  </a:lnTo>
                  <a:lnTo>
                    <a:pt x="2066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Szövegdoboz 8"/>
            <p:cNvSpPr/>
            <p:nvPr/>
          </p:nvSpPr>
          <p:spPr>
            <a:xfrm>
              <a:off x="3587760" y="20952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Csoportba foglalás 10"/>
          <p:cNvGrpSpPr/>
          <p:nvPr/>
        </p:nvGrpSpPr>
        <p:grpSpPr>
          <a:xfrm>
            <a:off x="4440240" y="212760"/>
            <a:ext cx="1420920" cy="337320"/>
            <a:chOff x="4440240" y="212760"/>
            <a:chExt cx="1420920" cy="337320"/>
          </a:xfrm>
        </p:grpSpPr>
        <p:sp>
          <p:nvSpPr>
            <p:cNvPr id="174" name="Sávnyíl 11"/>
            <p:cNvSpPr/>
            <p:nvPr/>
          </p:nvSpPr>
          <p:spPr>
            <a:xfrm>
              <a:off x="4440240" y="236520"/>
              <a:ext cx="1420920" cy="2732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Szövegdoboz 12"/>
            <p:cNvSpPr/>
            <p:nvPr/>
          </p:nvSpPr>
          <p:spPr>
            <a:xfrm>
              <a:off x="4951440" y="21276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Csoportba foglalás 13"/>
          <p:cNvGrpSpPr/>
          <p:nvPr/>
        </p:nvGrpSpPr>
        <p:grpSpPr>
          <a:xfrm>
            <a:off x="5799240" y="212760"/>
            <a:ext cx="1420560" cy="337320"/>
            <a:chOff x="5799240" y="212760"/>
            <a:chExt cx="1420560" cy="337320"/>
          </a:xfrm>
        </p:grpSpPr>
        <p:sp>
          <p:nvSpPr>
            <p:cNvPr id="177" name="Sávnyíl 14"/>
            <p:cNvSpPr/>
            <p:nvPr/>
          </p:nvSpPr>
          <p:spPr>
            <a:xfrm>
              <a:off x="5799240" y="236520"/>
              <a:ext cx="1420560" cy="27324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Szövegdoboz 16"/>
            <p:cNvSpPr/>
            <p:nvPr/>
          </p:nvSpPr>
          <p:spPr>
            <a:xfrm>
              <a:off x="6310440" y="21276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9" name="TextBox 4"/>
          <p:cNvSpPr/>
          <p:nvPr/>
        </p:nvSpPr>
        <p:spPr>
          <a:xfrm rot="16200000">
            <a:off x="5428440" y="3233880"/>
            <a:ext cx="703908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1. Bevezet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0" name="Objektum 2"/>
          <p:cNvGraphicFramePr/>
          <p:nvPr/>
        </p:nvGraphicFramePr>
        <p:xfrm>
          <a:off x="-128520" y="549360"/>
          <a:ext cx="8248680" cy="63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ktum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8520" y="549360"/>
                    <a:ext cx="8248680" cy="63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artalom helye 2"/>
          <p:cNvSpPr/>
          <p:nvPr/>
        </p:nvSpPr>
        <p:spPr>
          <a:xfrm>
            <a:off x="66600" y="555480"/>
            <a:ext cx="88632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70c0"/>
                </a:solidFill>
                <a:latin typeface="Arial"/>
              </a:rPr>
              <a:t>A közlekedési rendszerek és folyamatok egyre részletesebb,</a:t>
            </a:r>
            <a:br>
              <a:rPr sz="1600"/>
            </a:br>
            <a:r>
              <a:rPr b="0" lang="hu-HU" sz="1600" spc="-1" strike="noStrike">
                <a:solidFill>
                  <a:srgbClr val="0070c0"/>
                </a:solidFill>
                <a:latin typeface="Arial"/>
              </a:rPr>
              <a:t> valós  idejű leképezése adatbázisokban (eltérő célokkal) – </a:t>
            </a:r>
            <a:r>
              <a:rPr b="1" lang="hu-HU" sz="1600" spc="-1" strike="noStrike">
                <a:solidFill>
                  <a:srgbClr val="0070c0"/>
                </a:solidFill>
                <a:latin typeface="Arial"/>
              </a:rPr>
              <a:t>kutatási potenciá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églalap 4"/>
          <p:cNvSpPr/>
          <p:nvPr/>
        </p:nvSpPr>
        <p:spPr>
          <a:xfrm>
            <a:off x="-444600" y="6543720"/>
            <a:ext cx="69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személyközlekedési rendszert leképező információ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églalap 5"/>
          <p:cNvSpPr/>
          <p:nvPr/>
        </p:nvSpPr>
        <p:spPr>
          <a:xfrm>
            <a:off x="5430960" y="4815000"/>
            <a:ext cx="33890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információkezelési műveletek intenzitása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1. információgyűjtés - (idő- vagy eseményvezérelt) mintavételezési frekvenc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2. információfeldolgozás - a keresleti és a kínálati jellemzők egymáshoz rendezése célfüggvények alapjá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zövegdoboz 86"/>
          <p:cNvSpPr/>
          <p:nvPr/>
        </p:nvSpPr>
        <p:spPr>
          <a:xfrm>
            <a:off x="5500800" y="6543720"/>
            <a:ext cx="20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(forrás: sajá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7"/>
          <p:cNvSpPr/>
          <p:nvPr/>
        </p:nvSpPr>
        <p:spPr>
          <a:xfrm>
            <a:off x="4403880" y="2529000"/>
            <a:ext cx="4489200" cy="2263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72000" bIns="126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000" spc="-1" strike="noStrike">
                <a:solidFill>
                  <a:srgbClr val="191919"/>
                </a:solidFill>
                <a:latin typeface="Arial"/>
              </a:rPr>
              <a:t>Kínál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4524480" y="2820960"/>
            <a:ext cx="960480" cy="1868400"/>
          </a:xfrm>
          <a:prstGeom prst="rect">
            <a:avLst/>
          </a:prstGeom>
          <a:solidFill>
            <a:srgbClr val="d1e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tervezett kínála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209520" y="2529000"/>
            <a:ext cx="3354480" cy="2865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72000" bIns="126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000" spc="-1" strike="noStrike">
                <a:solidFill>
                  <a:srgbClr val="191919"/>
                </a:solidFill>
                <a:latin typeface="Arial"/>
              </a:rPr>
              <a:t>Keresl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18"/>
          <p:cNvSpPr/>
          <p:nvPr/>
        </p:nvSpPr>
        <p:spPr>
          <a:xfrm>
            <a:off x="2441520" y="3321000"/>
            <a:ext cx="960480" cy="1944720"/>
          </a:xfrm>
          <a:prstGeom prst="rect">
            <a:avLst/>
          </a:prstGeom>
          <a:solidFill>
            <a:srgbClr val="d1e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mobilitási igénye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6360" y="681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7315200" y="3249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92160" y="244440"/>
            <a:ext cx="8943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70c0"/>
                </a:solidFill>
                <a:latin typeface="Arial"/>
              </a:rPr>
              <a:t>Kutatási térké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Line 11"/>
          <p:cNvSpPr/>
          <p:nvPr/>
        </p:nvSpPr>
        <p:spPr>
          <a:xfrm flipV="1">
            <a:off x="647640" y="34290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19"/>
          <p:cNvSpPr/>
          <p:nvPr/>
        </p:nvSpPr>
        <p:spPr>
          <a:xfrm>
            <a:off x="2604960" y="3538440"/>
            <a:ext cx="64152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előre tervezett utazási igénye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1609560" y="3614760"/>
            <a:ext cx="638280" cy="67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mobilitás menedzs-ment</a:t>
            </a:r>
            <a:br>
              <a:rPr sz="800"/>
            </a:b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 (igény-befolyásolá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21"/>
          <p:cNvSpPr/>
          <p:nvPr/>
        </p:nvSpPr>
        <p:spPr>
          <a:xfrm>
            <a:off x="3587760" y="5265720"/>
            <a:ext cx="2855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actual traffic situation (location) based information service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22"/>
          <p:cNvSpPr/>
          <p:nvPr/>
        </p:nvSpPr>
        <p:spPr>
          <a:xfrm>
            <a:off x="4668840" y="3538440"/>
            <a:ext cx="63972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előre tervezett kínála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23"/>
          <p:cNvSpPr/>
          <p:nvPr/>
        </p:nvSpPr>
        <p:spPr>
          <a:xfrm>
            <a:off x="5651640" y="3645000"/>
            <a:ext cx="641160" cy="67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mobilitás menedzs-ment (forgalom-irányítá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Line 31"/>
          <p:cNvSpPr/>
          <p:nvPr/>
        </p:nvSpPr>
        <p:spPr>
          <a:xfrm>
            <a:off x="641520" y="42814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Line 45"/>
          <p:cNvSpPr/>
          <p:nvPr/>
        </p:nvSpPr>
        <p:spPr>
          <a:xfrm flipV="1">
            <a:off x="1778040" y="4273560"/>
            <a:ext cx="0" cy="53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Line 46"/>
          <p:cNvSpPr/>
          <p:nvPr/>
        </p:nvSpPr>
        <p:spPr>
          <a:xfrm>
            <a:off x="2050920" y="2421000"/>
            <a:ext cx="0" cy="11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Line 49"/>
          <p:cNvSpPr/>
          <p:nvPr/>
        </p:nvSpPr>
        <p:spPr>
          <a:xfrm>
            <a:off x="938160" y="4809960"/>
            <a:ext cx="83988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-2880" bIns="-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Line 50"/>
          <p:cNvSpPr/>
          <p:nvPr/>
        </p:nvSpPr>
        <p:spPr>
          <a:xfrm>
            <a:off x="2050920" y="2421000"/>
            <a:ext cx="644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Line 57"/>
          <p:cNvSpPr/>
          <p:nvPr/>
        </p:nvSpPr>
        <p:spPr>
          <a:xfrm>
            <a:off x="3246480" y="3801960"/>
            <a:ext cx="1422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Line 58"/>
          <p:cNvSpPr/>
          <p:nvPr/>
        </p:nvSpPr>
        <p:spPr>
          <a:xfrm>
            <a:off x="1793880" y="3232080"/>
            <a:ext cx="0" cy="38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Line 59"/>
          <p:cNvSpPr/>
          <p:nvPr/>
        </p:nvSpPr>
        <p:spPr>
          <a:xfrm flipH="1">
            <a:off x="944280" y="3235320"/>
            <a:ext cx="84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Oval 81"/>
          <p:cNvSpPr/>
          <p:nvPr/>
        </p:nvSpPr>
        <p:spPr>
          <a:xfrm>
            <a:off x="324000" y="3610080"/>
            <a:ext cx="634680" cy="671400"/>
          </a:xfrm>
          <a:prstGeom prst="ellipse">
            <a:avLst/>
          </a:prstGeom>
          <a:solidFill>
            <a:srgbClr val="e3f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82"/>
          <p:cNvSpPr/>
          <p:nvPr/>
        </p:nvSpPr>
        <p:spPr>
          <a:xfrm>
            <a:off x="351000" y="3643200"/>
            <a:ext cx="6346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333333"/>
                </a:solidFill>
                <a:latin typeface="Arial"/>
              </a:rPr>
              <a:t>sze-mély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333333"/>
                </a:solidFill>
                <a:latin typeface="Arial"/>
              </a:rPr>
              <a:t>(döntések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Line 85"/>
          <p:cNvSpPr/>
          <p:nvPr/>
        </p:nvSpPr>
        <p:spPr>
          <a:xfrm flipV="1">
            <a:off x="1438200" y="3933360"/>
            <a:ext cx="171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90"/>
          <p:cNvSpPr/>
          <p:nvPr/>
        </p:nvSpPr>
        <p:spPr>
          <a:xfrm>
            <a:off x="6459480" y="2820960"/>
            <a:ext cx="754200" cy="2808360"/>
          </a:xfrm>
          <a:prstGeom prst="rect">
            <a:avLst/>
          </a:prstGeom>
          <a:solidFill>
            <a:srgbClr val="d1e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valós forgalmi helyzet</a:t>
            </a:r>
            <a:br>
              <a:rPr sz="800"/>
            </a:b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(mozgó objektumok adatai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91"/>
          <p:cNvSpPr/>
          <p:nvPr/>
        </p:nvSpPr>
        <p:spPr>
          <a:xfrm>
            <a:off x="7380360" y="3649680"/>
            <a:ext cx="641160" cy="66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mobilitás  menedzs-ment</a:t>
            </a:r>
            <a:br>
              <a:rPr sz="800"/>
            </a:b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(forgalmi előrejelzé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22"/>
          <p:cNvSpPr/>
          <p:nvPr/>
        </p:nvSpPr>
        <p:spPr>
          <a:xfrm>
            <a:off x="4668840" y="4119480"/>
            <a:ext cx="639720" cy="47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operatívan tervezett kínála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19"/>
          <p:cNvSpPr/>
          <p:nvPr/>
        </p:nvSpPr>
        <p:spPr>
          <a:xfrm>
            <a:off x="2604960" y="4100400"/>
            <a:ext cx="6415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tényleges  utazási igénye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Csoportba foglalás 95"/>
          <p:cNvGrpSpPr/>
          <p:nvPr/>
        </p:nvGrpSpPr>
        <p:grpSpPr>
          <a:xfrm>
            <a:off x="6540480" y="5102280"/>
            <a:ext cx="593640" cy="523800"/>
            <a:chOff x="6540480" y="5102280"/>
            <a:chExt cx="593640" cy="523800"/>
          </a:xfrm>
        </p:grpSpPr>
        <p:sp>
          <p:nvSpPr>
            <p:cNvPr id="215" name="AutoShape 37"/>
            <p:cNvSpPr/>
            <p:nvPr/>
          </p:nvSpPr>
          <p:spPr>
            <a:xfrm>
              <a:off x="6540480" y="5102280"/>
              <a:ext cx="593640" cy="451080"/>
            </a:xfrm>
            <a:prstGeom prst="can">
              <a:avLst>
                <a:gd name="adj" fmla="val 25000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Text Box 38"/>
            <p:cNvSpPr/>
            <p:nvPr/>
          </p:nvSpPr>
          <p:spPr>
            <a:xfrm>
              <a:off x="6540480" y="5206320"/>
              <a:ext cx="5634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700" spc="-1" strike="noStrike">
                  <a:solidFill>
                    <a:srgbClr val="333333"/>
                  </a:solidFill>
                  <a:latin typeface="Arial"/>
                </a:rPr>
                <a:t>utazók pozíció adatai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AutoShape 37"/>
          <p:cNvSpPr/>
          <p:nvPr/>
        </p:nvSpPr>
        <p:spPr>
          <a:xfrm>
            <a:off x="343080" y="4464000"/>
            <a:ext cx="595080" cy="657360"/>
          </a:xfrm>
          <a:prstGeom prst="can">
            <a:avLst>
              <a:gd name="adj" fmla="val 2262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38"/>
          <p:cNvSpPr/>
          <p:nvPr/>
        </p:nvSpPr>
        <p:spPr>
          <a:xfrm>
            <a:off x="343080" y="4626000"/>
            <a:ext cx="595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700" spc="-1" strike="noStrike">
                <a:solidFill>
                  <a:srgbClr val="333333"/>
                </a:solidFill>
                <a:latin typeface="Arial"/>
              </a:rPr>
              <a:t>termékek, szolgál-tatások iránti igény adatok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AutoShape 37"/>
          <p:cNvSpPr/>
          <p:nvPr/>
        </p:nvSpPr>
        <p:spPr>
          <a:xfrm>
            <a:off x="351000" y="2997360"/>
            <a:ext cx="593640" cy="452160"/>
          </a:xfrm>
          <a:prstGeom prst="can">
            <a:avLst>
              <a:gd name="adj" fmla="val 2500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38"/>
          <p:cNvSpPr/>
          <p:nvPr/>
        </p:nvSpPr>
        <p:spPr>
          <a:xfrm>
            <a:off x="351000" y="3102120"/>
            <a:ext cx="5936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700" spc="-1" strike="noStrike">
                <a:solidFill>
                  <a:srgbClr val="333333"/>
                </a:solidFill>
                <a:latin typeface="Arial"/>
              </a:rPr>
              <a:t>személyes jellemzők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Line 11"/>
          <p:cNvSpPr/>
          <p:nvPr/>
        </p:nvSpPr>
        <p:spPr>
          <a:xfrm flipV="1">
            <a:off x="343080" y="5935320"/>
            <a:ext cx="2966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Line 11"/>
          <p:cNvSpPr/>
          <p:nvPr/>
        </p:nvSpPr>
        <p:spPr>
          <a:xfrm>
            <a:off x="2232000" y="3933720"/>
            <a:ext cx="195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Line 59"/>
          <p:cNvSpPr/>
          <p:nvPr/>
        </p:nvSpPr>
        <p:spPr>
          <a:xfrm flipV="1">
            <a:off x="6807240" y="2420640"/>
            <a:ext cx="12600" cy="65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AutoShape 37"/>
          <p:cNvSpPr/>
          <p:nvPr/>
        </p:nvSpPr>
        <p:spPr>
          <a:xfrm>
            <a:off x="6523200" y="3070080"/>
            <a:ext cx="593640" cy="451080"/>
          </a:xfrm>
          <a:prstGeom prst="can">
            <a:avLst>
              <a:gd name="adj" fmla="val 2500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38"/>
          <p:cNvSpPr/>
          <p:nvPr/>
        </p:nvSpPr>
        <p:spPr>
          <a:xfrm>
            <a:off x="6535800" y="3178080"/>
            <a:ext cx="561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700" spc="-1" strike="noStrike">
                <a:solidFill>
                  <a:srgbClr val="333333"/>
                </a:solidFill>
                <a:latin typeface="Arial"/>
              </a:rPr>
              <a:t>járművek pozíció és állapot adatai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91"/>
          <p:cNvSpPr/>
          <p:nvPr/>
        </p:nvSpPr>
        <p:spPr>
          <a:xfrm>
            <a:off x="8172360" y="3643200"/>
            <a:ext cx="641520" cy="669960"/>
          </a:xfrm>
          <a:prstGeom prst="rect">
            <a:avLst/>
          </a:prstGeom>
          <a:solidFill>
            <a:srgbClr val="d1e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rövid távon előre jelzett forgalmi helyze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Line 50"/>
          <p:cNvSpPr/>
          <p:nvPr/>
        </p:nvSpPr>
        <p:spPr>
          <a:xfrm>
            <a:off x="2050920" y="5478480"/>
            <a:ext cx="448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Line 46"/>
          <p:cNvSpPr/>
          <p:nvPr/>
        </p:nvSpPr>
        <p:spPr>
          <a:xfrm flipV="1">
            <a:off x="2050920" y="4274640"/>
            <a:ext cx="0" cy="120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Line 57"/>
          <p:cNvSpPr/>
          <p:nvPr/>
        </p:nvSpPr>
        <p:spPr>
          <a:xfrm>
            <a:off x="3246480" y="4257720"/>
            <a:ext cx="1422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3678120" y="3657600"/>
            <a:ext cx="641520" cy="67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mobilitás menedzs-ment</a:t>
            </a:r>
            <a:br>
              <a:rPr sz="800"/>
            </a:b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 (kínálat tervezé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Line 59"/>
          <p:cNvSpPr/>
          <p:nvPr/>
        </p:nvSpPr>
        <p:spPr>
          <a:xfrm flipV="1">
            <a:off x="4962600" y="2420640"/>
            <a:ext cx="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Line 59"/>
          <p:cNvSpPr/>
          <p:nvPr/>
        </p:nvSpPr>
        <p:spPr>
          <a:xfrm flipH="1" flipV="1">
            <a:off x="8496000" y="2420640"/>
            <a:ext cx="3240" cy="12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40"/>
          <p:cNvSpPr/>
          <p:nvPr/>
        </p:nvSpPr>
        <p:spPr>
          <a:xfrm>
            <a:off x="1116000" y="3743280"/>
            <a:ext cx="336600" cy="414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72000" bIns="126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s</a:t>
            </a:r>
            <a:r>
              <a:rPr b="0" lang="en-GB" sz="800" spc="-1" strike="noStrike">
                <a:solidFill>
                  <a:srgbClr val="191919"/>
                </a:solidFill>
                <a:latin typeface="Arial"/>
              </a:rPr>
              <a:t>mart phon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Line 11"/>
          <p:cNvSpPr/>
          <p:nvPr/>
        </p:nvSpPr>
        <p:spPr>
          <a:xfrm flipV="1">
            <a:off x="5484960" y="4008600"/>
            <a:ext cx="166680" cy="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Line 11"/>
          <p:cNvSpPr/>
          <p:nvPr/>
        </p:nvSpPr>
        <p:spPr>
          <a:xfrm flipV="1">
            <a:off x="6289560" y="4000680"/>
            <a:ext cx="166680" cy="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Line 85"/>
          <p:cNvSpPr/>
          <p:nvPr/>
        </p:nvSpPr>
        <p:spPr>
          <a:xfrm flipV="1">
            <a:off x="944640" y="3933360"/>
            <a:ext cx="171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Line 11"/>
          <p:cNvSpPr/>
          <p:nvPr/>
        </p:nvSpPr>
        <p:spPr>
          <a:xfrm>
            <a:off x="7236000" y="4008600"/>
            <a:ext cx="144360" cy="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Line 11"/>
          <p:cNvSpPr/>
          <p:nvPr/>
        </p:nvSpPr>
        <p:spPr>
          <a:xfrm>
            <a:off x="8028000" y="4005360"/>
            <a:ext cx="14436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Line 46"/>
          <p:cNvSpPr/>
          <p:nvPr/>
        </p:nvSpPr>
        <p:spPr>
          <a:xfrm>
            <a:off x="2892600" y="4599000"/>
            <a:ext cx="0" cy="87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 Box 77"/>
          <p:cNvSpPr/>
          <p:nvPr/>
        </p:nvSpPr>
        <p:spPr>
          <a:xfrm>
            <a:off x="193680" y="5576760"/>
            <a:ext cx="9604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Jelmagyarázat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 Box 77"/>
          <p:cNvSpPr/>
          <p:nvPr/>
        </p:nvSpPr>
        <p:spPr>
          <a:xfrm>
            <a:off x="-684360" y="765000"/>
            <a:ext cx="6104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191919"/>
                </a:solidFill>
                <a:latin typeface="Arial"/>
              </a:rPr>
              <a:t>közlekedési rendszerek „áramlási tere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 Box 77"/>
          <p:cNvSpPr/>
          <p:nvPr/>
        </p:nvSpPr>
        <p:spPr>
          <a:xfrm>
            <a:off x="750960" y="5845320"/>
            <a:ext cx="11779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191919"/>
                </a:solidFill>
                <a:latin typeface="Arial"/>
              </a:rPr>
              <a:t>információáramlá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Jobbra nyíl 1"/>
          <p:cNvSpPr/>
          <p:nvPr/>
        </p:nvSpPr>
        <p:spPr>
          <a:xfrm>
            <a:off x="351000" y="6127920"/>
            <a:ext cx="322200" cy="129960"/>
          </a:xfrm>
          <a:prstGeom prst="rightArrow">
            <a:avLst>
              <a:gd name="adj1" fmla="val 50000"/>
              <a:gd name="adj2" fmla="val 4967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77"/>
          <p:cNvSpPr/>
          <p:nvPr/>
        </p:nvSpPr>
        <p:spPr>
          <a:xfrm>
            <a:off x="755640" y="6099120"/>
            <a:ext cx="21369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191919"/>
                </a:solidFill>
                <a:latin typeface="Arial"/>
              </a:rPr>
              <a:t>személy- és járműáramlá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Jobbra nyíl 74"/>
          <p:cNvSpPr/>
          <p:nvPr/>
        </p:nvSpPr>
        <p:spPr>
          <a:xfrm>
            <a:off x="3402000" y="5118120"/>
            <a:ext cx="3041640" cy="103320"/>
          </a:xfrm>
          <a:prstGeom prst="rightArrow">
            <a:avLst>
              <a:gd name="adj1" fmla="val 50000"/>
              <a:gd name="adj2" fmla="val 49883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Jobbra nyíl 75"/>
          <p:cNvSpPr/>
          <p:nvPr/>
        </p:nvSpPr>
        <p:spPr>
          <a:xfrm>
            <a:off x="5484960" y="2894040"/>
            <a:ext cx="974520" cy="103320"/>
          </a:xfrm>
          <a:prstGeom prst="rightArrow">
            <a:avLst>
              <a:gd name="adj1" fmla="val 50000"/>
              <a:gd name="adj2" fmla="val 4986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21"/>
          <p:cNvSpPr/>
          <p:nvPr/>
        </p:nvSpPr>
        <p:spPr>
          <a:xfrm>
            <a:off x="5445000" y="4941720"/>
            <a:ext cx="1106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800" spc="-1" strike="noStrike">
                <a:solidFill>
                  <a:srgbClr val="191919"/>
                </a:solidFill>
                <a:latin typeface="Arial"/>
              </a:rPr>
              <a:t>személyáramlato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21"/>
          <p:cNvSpPr/>
          <p:nvPr/>
        </p:nvSpPr>
        <p:spPr>
          <a:xfrm>
            <a:off x="5445000" y="2714760"/>
            <a:ext cx="1106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800" spc="-1" strike="noStrike">
                <a:solidFill>
                  <a:srgbClr val="191919"/>
                </a:solidFill>
                <a:latin typeface="Arial"/>
              </a:rPr>
              <a:t>járműáramlato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Csoportba foglalás 95"/>
          <p:cNvGrpSpPr/>
          <p:nvPr/>
        </p:nvGrpSpPr>
        <p:grpSpPr>
          <a:xfrm>
            <a:off x="5670720" y="3068640"/>
            <a:ext cx="593640" cy="566640"/>
            <a:chOff x="5670720" y="3068640"/>
            <a:chExt cx="593640" cy="566640"/>
          </a:xfrm>
        </p:grpSpPr>
        <p:sp>
          <p:nvSpPr>
            <p:cNvPr id="250" name="AutoShape 37"/>
            <p:cNvSpPr/>
            <p:nvPr/>
          </p:nvSpPr>
          <p:spPr>
            <a:xfrm>
              <a:off x="5670720" y="3068640"/>
              <a:ext cx="593640" cy="450720"/>
            </a:xfrm>
            <a:prstGeom prst="can">
              <a:avLst>
                <a:gd name="adj" fmla="val 25000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Text Box 38"/>
            <p:cNvSpPr/>
            <p:nvPr/>
          </p:nvSpPr>
          <p:spPr>
            <a:xfrm>
              <a:off x="5696640" y="3215520"/>
              <a:ext cx="5634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700" spc="-1" strike="noStrike">
                  <a:solidFill>
                    <a:srgbClr val="333333"/>
                  </a:solidFill>
                  <a:latin typeface="Arial"/>
                </a:rPr>
                <a:t>környezeti adatok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2" name="Csoportba foglalás 2"/>
          <p:cNvGrpSpPr/>
          <p:nvPr/>
        </p:nvGrpSpPr>
        <p:grpSpPr>
          <a:xfrm>
            <a:off x="5680080" y="4489560"/>
            <a:ext cx="593640" cy="560160"/>
            <a:chOff x="5680080" y="4489560"/>
            <a:chExt cx="593640" cy="560160"/>
          </a:xfrm>
        </p:grpSpPr>
        <p:sp>
          <p:nvSpPr>
            <p:cNvPr id="253" name="AutoShape 37"/>
            <p:cNvSpPr/>
            <p:nvPr/>
          </p:nvSpPr>
          <p:spPr>
            <a:xfrm>
              <a:off x="5680080" y="4489560"/>
              <a:ext cx="593640" cy="452520"/>
            </a:xfrm>
            <a:prstGeom prst="can">
              <a:avLst>
                <a:gd name="adj" fmla="val 25000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Text Box 38"/>
            <p:cNvSpPr/>
            <p:nvPr/>
          </p:nvSpPr>
          <p:spPr>
            <a:xfrm>
              <a:off x="5691240" y="4629600"/>
              <a:ext cx="56340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700" spc="-1" strike="noStrike">
                  <a:solidFill>
                    <a:srgbClr val="333333"/>
                  </a:solidFill>
                  <a:latin typeface="Arial"/>
                </a:rPr>
                <a:t>infrastruktúra jellemzők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5" name="Line 11"/>
          <p:cNvSpPr/>
          <p:nvPr/>
        </p:nvSpPr>
        <p:spPr>
          <a:xfrm flipV="1">
            <a:off x="5972040" y="4325400"/>
            <a:ext cx="0" cy="163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Line 31"/>
          <p:cNvSpPr/>
          <p:nvPr/>
        </p:nvSpPr>
        <p:spPr>
          <a:xfrm>
            <a:off x="5959440" y="3502080"/>
            <a:ext cx="0" cy="13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" name="Csoportba foglalás 8"/>
          <p:cNvGrpSpPr/>
          <p:nvPr/>
        </p:nvGrpSpPr>
        <p:grpSpPr>
          <a:xfrm>
            <a:off x="5329080" y="1706400"/>
            <a:ext cx="1986120" cy="3268800"/>
            <a:chOff x="5329080" y="1706400"/>
            <a:chExt cx="1986120" cy="3268800"/>
          </a:xfrm>
        </p:grpSpPr>
        <p:sp>
          <p:nvSpPr>
            <p:cNvPr id="258" name="Text Box 77"/>
            <p:cNvSpPr/>
            <p:nvPr/>
          </p:nvSpPr>
          <p:spPr>
            <a:xfrm>
              <a:off x="5329080" y="1706400"/>
              <a:ext cx="197928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c00000"/>
                  </a:solidFill>
                  <a:latin typeface="Arial"/>
                </a:rPr>
                <a:t>1. tervezett és nyújtott minőség közötti rés vizsgálat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Lekerekített téglalap 2"/>
            <p:cNvSpPr/>
            <p:nvPr/>
          </p:nvSpPr>
          <p:spPr>
            <a:xfrm>
              <a:off x="5395320" y="2714400"/>
              <a:ext cx="1919880" cy="2260800"/>
            </a:xfrm>
            <a:custGeom>
              <a:avLst/>
              <a:gdLst>
                <a:gd name="textAreaLeft" fmla="*/ 93600 w 1919880"/>
                <a:gd name="textAreaRight" fmla="*/ 1826280 w 1919880"/>
                <a:gd name="textAreaTop" fmla="*/ 93600 h 2260800"/>
                <a:gd name="textAreaBottom" fmla="*/ 2167200 h 2260800"/>
              </a:gdLst>
              <a:ahLst/>
              <a:rect l="textAreaLeft" t="textAreaTop" r="textAreaRight" b="textAreaBottom"/>
              <a:pathLst>
                <a:path w="21600" h="25435">
                  <a:moveTo>
                    <a:pt x="3600" y="0"/>
                  </a:moveTo>
                  <a:arcTo wR="3600" hR="3600" stAng="16200000" swAng="-5400000"/>
                  <a:lnTo>
                    <a:pt x="0" y="21835"/>
                  </a:lnTo>
                  <a:arcTo wR="3600" hR="3600" stAng="10800000" swAng="-5400000"/>
                  <a:lnTo>
                    <a:pt x="18000" y="254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2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Csoportba foglalás 5"/>
          <p:cNvGrpSpPr/>
          <p:nvPr/>
        </p:nvGrpSpPr>
        <p:grpSpPr>
          <a:xfrm>
            <a:off x="4356000" y="1266840"/>
            <a:ext cx="4537080" cy="4362480"/>
            <a:chOff x="4356000" y="1266840"/>
            <a:chExt cx="4537080" cy="4362480"/>
          </a:xfrm>
        </p:grpSpPr>
        <p:sp>
          <p:nvSpPr>
            <p:cNvPr id="261" name="Text Box 77"/>
            <p:cNvSpPr/>
            <p:nvPr/>
          </p:nvSpPr>
          <p:spPr>
            <a:xfrm>
              <a:off x="4356000" y="1266840"/>
              <a:ext cx="45370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c00000"/>
                  </a:solidFill>
                  <a:latin typeface="Arial"/>
                </a:rPr>
                <a:t>2. az érzékelt minőség befolyásolása</a:t>
              </a:r>
              <a:br>
                <a:rPr sz="1200"/>
              </a:br>
              <a:r>
                <a:rPr b="0" lang="hu-HU" sz="1200" spc="-1" strike="noStrike">
                  <a:solidFill>
                    <a:srgbClr val="c00000"/>
                  </a:solidFill>
                  <a:latin typeface="Arial"/>
                </a:rPr>
                <a:t> (a forgalmi helyzet megbízható előrejelzésével)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Lekerekített téglalap 79"/>
            <p:cNvSpPr/>
            <p:nvPr/>
          </p:nvSpPr>
          <p:spPr>
            <a:xfrm>
              <a:off x="4356000" y="2764800"/>
              <a:ext cx="4537080" cy="28645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Csoportba foglalás 6"/>
          <p:cNvGrpSpPr/>
          <p:nvPr/>
        </p:nvGrpSpPr>
        <p:grpSpPr>
          <a:xfrm>
            <a:off x="0" y="1847880"/>
            <a:ext cx="2962440" cy="2523960"/>
            <a:chOff x="0" y="1847880"/>
            <a:chExt cx="2962440" cy="2523960"/>
          </a:xfrm>
        </p:grpSpPr>
        <p:sp>
          <p:nvSpPr>
            <p:cNvPr id="264" name="Text Box 77"/>
            <p:cNvSpPr/>
            <p:nvPr/>
          </p:nvSpPr>
          <p:spPr>
            <a:xfrm>
              <a:off x="0" y="1847880"/>
              <a:ext cx="296244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c00000"/>
                  </a:solidFill>
                  <a:latin typeface="Arial"/>
                </a:rPr>
                <a:t>3. érzékelt minőség befolyásolás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c00000"/>
                  </a:solidFill>
                  <a:latin typeface="Arial"/>
                </a:rPr>
                <a:t>(személyre szabott információkkal)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Lekerekített téglalap 80"/>
            <p:cNvSpPr/>
            <p:nvPr/>
          </p:nvSpPr>
          <p:spPr>
            <a:xfrm>
              <a:off x="237960" y="2926800"/>
              <a:ext cx="2101320" cy="14450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Csoportba foglalás 7"/>
          <p:cNvGrpSpPr/>
          <p:nvPr/>
        </p:nvGrpSpPr>
        <p:grpSpPr>
          <a:xfrm>
            <a:off x="-36360" y="1274760"/>
            <a:ext cx="3747960" cy="4025880"/>
            <a:chOff x="-36360" y="1274760"/>
            <a:chExt cx="3747960" cy="4025880"/>
          </a:xfrm>
        </p:grpSpPr>
        <p:sp>
          <p:nvSpPr>
            <p:cNvPr id="267" name="Lekerekített téglalap 82"/>
            <p:cNvSpPr/>
            <p:nvPr/>
          </p:nvSpPr>
          <p:spPr>
            <a:xfrm>
              <a:off x="146520" y="2896920"/>
              <a:ext cx="3417480" cy="24037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Text Box 77"/>
            <p:cNvSpPr/>
            <p:nvPr/>
          </p:nvSpPr>
          <p:spPr>
            <a:xfrm>
              <a:off x="-36360" y="1274760"/>
              <a:ext cx="374796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c00000"/>
                  </a:solidFill>
                  <a:latin typeface="Arial"/>
                </a:rPr>
                <a:t>4. az elvárt minőség feltárás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c00000"/>
                  </a:solidFill>
                  <a:latin typeface="Arial"/>
                </a:rPr>
                <a:t>(a mobilitási igények megbízható előrejelzésével)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Szövegdoboz 3"/>
          <p:cNvSpPr/>
          <p:nvPr/>
        </p:nvSpPr>
        <p:spPr>
          <a:xfrm>
            <a:off x="4611600" y="765000"/>
            <a:ext cx="45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33"/>
                </a:solidFill>
                <a:latin typeface="Arial"/>
              </a:rPr>
              <a:t>Adatgyűjtés különböző forrásokból – (adatbányásza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églalap 19"/>
          <p:cNvSpPr/>
          <p:nvPr/>
        </p:nvSpPr>
        <p:spPr>
          <a:xfrm>
            <a:off x="3468600" y="5929200"/>
            <a:ext cx="54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személyközlekedési információkezelés modellj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zövegdoboz 86"/>
          <p:cNvSpPr/>
          <p:nvPr/>
        </p:nvSpPr>
        <p:spPr>
          <a:xfrm>
            <a:off x="5189400" y="6257880"/>
            <a:ext cx="202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333333"/>
                </a:solidFill>
                <a:latin typeface="Arial"/>
              </a:rPr>
              <a:t>(forrás: sajá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Csoportba foglalás 3"/>
          <p:cNvGrpSpPr/>
          <p:nvPr/>
        </p:nvGrpSpPr>
        <p:grpSpPr>
          <a:xfrm>
            <a:off x="1743120" y="204840"/>
            <a:ext cx="1420920" cy="337320"/>
            <a:chOff x="1743120" y="204840"/>
            <a:chExt cx="1420920" cy="337320"/>
          </a:xfrm>
        </p:grpSpPr>
        <p:sp>
          <p:nvSpPr>
            <p:cNvPr id="273" name="Sávnyíl 1"/>
            <p:cNvSpPr/>
            <p:nvPr/>
          </p:nvSpPr>
          <p:spPr>
            <a:xfrm>
              <a:off x="1743120" y="237960"/>
              <a:ext cx="1420920" cy="2732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Szövegdoboz 2"/>
            <p:cNvSpPr/>
            <p:nvPr/>
          </p:nvSpPr>
          <p:spPr>
            <a:xfrm>
              <a:off x="2249640" y="20484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1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5" name="Csoportba foglalás 4"/>
          <p:cNvGrpSpPr/>
          <p:nvPr/>
        </p:nvGrpSpPr>
        <p:grpSpPr>
          <a:xfrm>
            <a:off x="3076560" y="209520"/>
            <a:ext cx="1420920" cy="337320"/>
            <a:chOff x="3076560" y="209520"/>
            <a:chExt cx="1420920" cy="337320"/>
          </a:xfrm>
        </p:grpSpPr>
        <p:sp>
          <p:nvSpPr>
            <p:cNvPr id="276" name="Sávnyíl 7"/>
            <p:cNvSpPr/>
            <p:nvPr/>
          </p:nvSpPr>
          <p:spPr>
            <a:xfrm>
              <a:off x="3076560" y="233280"/>
              <a:ext cx="1420920" cy="2714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4" y="0"/>
                  </a:lnTo>
                  <a:lnTo>
                    <a:pt x="21600" y="10800"/>
                  </a:lnTo>
                  <a:lnTo>
                    <a:pt x="19534" y="21600"/>
                  </a:lnTo>
                  <a:lnTo>
                    <a:pt x="0" y="21600"/>
                  </a:lnTo>
                  <a:lnTo>
                    <a:pt x="2066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Szövegdoboz 8"/>
            <p:cNvSpPr/>
            <p:nvPr/>
          </p:nvSpPr>
          <p:spPr>
            <a:xfrm>
              <a:off x="3587760" y="20952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8" name="Csoportba foglalás 10"/>
          <p:cNvGrpSpPr/>
          <p:nvPr/>
        </p:nvGrpSpPr>
        <p:grpSpPr>
          <a:xfrm>
            <a:off x="4440240" y="212760"/>
            <a:ext cx="1420920" cy="337320"/>
            <a:chOff x="4440240" y="212760"/>
            <a:chExt cx="1420920" cy="337320"/>
          </a:xfrm>
        </p:grpSpPr>
        <p:sp>
          <p:nvSpPr>
            <p:cNvPr id="279" name="Sávnyíl 11"/>
            <p:cNvSpPr/>
            <p:nvPr/>
          </p:nvSpPr>
          <p:spPr>
            <a:xfrm>
              <a:off x="4440240" y="236520"/>
              <a:ext cx="1420920" cy="2732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Szövegdoboz 12"/>
            <p:cNvSpPr/>
            <p:nvPr/>
          </p:nvSpPr>
          <p:spPr>
            <a:xfrm>
              <a:off x="4951440" y="21276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1" name="Csoportba foglalás 13"/>
          <p:cNvGrpSpPr/>
          <p:nvPr/>
        </p:nvGrpSpPr>
        <p:grpSpPr>
          <a:xfrm>
            <a:off x="5799240" y="212760"/>
            <a:ext cx="1420560" cy="337320"/>
            <a:chOff x="5799240" y="212760"/>
            <a:chExt cx="1420560" cy="337320"/>
          </a:xfrm>
        </p:grpSpPr>
        <p:sp>
          <p:nvSpPr>
            <p:cNvPr id="282" name="Sávnyíl 14"/>
            <p:cNvSpPr/>
            <p:nvPr/>
          </p:nvSpPr>
          <p:spPr>
            <a:xfrm>
              <a:off x="5799240" y="236520"/>
              <a:ext cx="1420560" cy="27324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Szövegdoboz 16"/>
            <p:cNvSpPr/>
            <p:nvPr/>
          </p:nvSpPr>
          <p:spPr>
            <a:xfrm>
              <a:off x="6310440" y="21276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4" name="TextBox 4"/>
          <p:cNvSpPr/>
          <p:nvPr/>
        </p:nvSpPr>
        <p:spPr>
          <a:xfrm rot="16200000">
            <a:off x="5428440" y="3233880"/>
            <a:ext cx="703908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1. Bevezet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artalom helye 2"/>
          <p:cNvSpPr/>
          <p:nvPr/>
        </p:nvSpPr>
        <p:spPr>
          <a:xfrm>
            <a:off x="179280" y="1168560"/>
            <a:ext cx="8863200" cy="53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élkitűzé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Utazók befolyásolásával („soft” intézkedésekkel, információkezeléssel) jelentős eredmények érhetők 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Közlekedési minőség javítá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Hatékonyságnövekedé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Jármű mozgás - járművek jellemző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Utas mozgás - személyek jellemző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özlekedési rendszer többi összetevőinek jellemző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Üzemeltetői elvárások        - kapacitás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Utazói elvárások                 - igény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Kontextus függő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 személyre szabott, helytől függő és a körülményektől függő információkezelé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a50021"/>
                </a:solidFill>
                <a:latin typeface="Arial"/>
              </a:rPr>
              <a:t>Okostelefon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datgyűjtés tekintetében is jelentő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ávnyíl 19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28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290" name="Sávnyíl 32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2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293" name="Sávnyíl 30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5" name="TextBox 4"/>
          <p:cNvSpPr/>
          <p:nvPr/>
        </p:nvSpPr>
        <p:spPr>
          <a:xfrm rot="16200000">
            <a:off x="5481000" y="3191400"/>
            <a:ext cx="693432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2. Módszert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artalom helye 2"/>
          <p:cNvSpPr/>
          <p:nvPr/>
        </p:nvSpPr>
        <p:spPr>
          <a:xfrm>
            <a:off x="112680" y="1879560"/>
            <a:ext cx="857880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datforrás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isalföld Volán Zrt. győri helyi közlekedésében a műholdas flottakövető rendszerben gyűjtött adat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ÁV Pályavasút Üzletágnál rendelkezésre álló, az állomásokon rögzített adat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Győri polgármesteri hivatal által készíttetett felmérések adatai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kézi forgalomszámlálási adatok, parkolók adatai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valon Rent a Car(e) Kf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Időkép Üzleti Szolgáltatások Kft. – Országos Meteorológiai Szolgálat – időjárási adat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ávnyíl 19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00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02" name="Sávnyíl 32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4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05" name="Sávnyíl 30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" name="TextBox 4"/>
          <p:cNvSpPr/>
          <p:nvPr/>
        </p:nvSpPr>
        <p:spPr>
          <a:xfrm rot="16200000">
            <a:off x="5481000" y="3191400"/>
            <a:ext cx="693432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2. Módszert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artalom helye 2"/>
          <p:cNvSpPr/>
          <p:nvPr/>
        </p:nvSpPr>
        <p:spPr>
          <a:xfrm>
            <a:off x="282600" y="1374840"/>
            <a:ext cx="85788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utatási módszer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adatrögzítés módszere alapján az információtartalom feltár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Internetes kérdőíves kikérdezés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datmodell készíté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datbázis létrehoz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soportképzés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több szempont szerinti lekérdezése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(külön-külön és együttesen 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ultikritériumos elemzé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döntéstámogató módszer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lgoritmus kidolgozá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inta alkalmazás fejleszté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14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5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16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19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1" name="Téglalap 1"/>
          <p:cNvSpPr/>
          <p:nvPr/>
        </p:nvSpPr>
        <p:spPr>
          <a:xfrm>
            <a:off x="90360" y="1268280"/>
            <a:ext cx="9036000" cy="48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lyóiratcikk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.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odel of Multimodal Mobility Coordination and Guiding System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rnational Journal of Engineering and Innovative Technology (IJEIT) Volume 3, Issue 6, pp. 125-132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. Sándor, Zs. –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ole of Integrated Parking Information System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in Traffic Management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4)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riodica Polytechnica Civil Engineering. (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nder review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. Sándor, Z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sőzés hatása a hazai autópályák forgalmi jellemzőire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özlekedéstudományi Szemle Vol. 4. pp. 25-36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. Sándor, Z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ffects of Rainfall on the Motorway Traffic Parameters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ta Technica Jaurinensis 'Series Transitus' Vol. 6. No. 3. pp. 120-13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5. Nagy, E. –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z operatív menetrendkészítés automatizálásának vizsgálata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 városi közösségi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özlekedésbe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 Közlekedéstudományi Szemle Vol. 6. pp. 13-26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. Nagy, E. –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search on Automation of Operative Scheduling in Urban Public 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ransportatio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ta Technica Jaurinensis 'Series Transitus' Vol. 6. No. 3. pp. 94-10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50021"/>
                </a:solidFill>
                <a:latin typeface="Arial"/>
              </a:rPr>
              <a:t>7. Sándor, Zs. – Csiszár, Cs.: </a:t>
            </a:r>
            <a:r>
              <a:rPr b="1" lang="en-US" sz="1400" spc="-1" strike="noStrike">
                <a:solidFill>
                  <a:srgbClr val="a50021"/>
                </a:solidFill>
                <a:latin typeface="Arial"/>
              </a:rPr>
              <a:t>Method for Analysis of Delays in Local Bus Transport and Prediction of </a:t>
            </a:r>
            <a:br>
              <a:rPr sz="1400"/>
            </a:br>
            <a:r>
              <a:rPr b="1" lang="hu-HU" sz="14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a50021"/>
                </a:solidFill>
                <a:latin typeface="Arial"/>
              </a:rPr>
              <a:t>Dwelling Times at Stops </a:t>
            </a:r>
            <a:r>
              <a:rPr b="0" lang="en-US" sz="1400" spc="-1" strike="noStrike">
                <a:solidFill>
                  <a:srgbClr val="a50021"/>
                </a:solidFill>
                <a:latin typeface="Arial"/>
              </a:rPr>
              <a:t>(2014). Acta Polytechnica Hungarica. (</a:t>
            </a:r>
            <a:r>
              <a:rPr b="0" lang="hu-HU" sz="1400" spc="-1" strike="noStrike">
                <a:solidFill>
                  <a:srgbClr val="a50021"/>
                </a:solidFill>
                <a:latin typeface="Arial"/>
              </a:rPr>
              <a:t>under review</a:t>
            </a:r>
            <a:r>
              <a:rPr b="0" lang="en-US" sz="14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8. Nagy, E. –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nalysis of Delay Causes in Railway Passenger Transportatio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eriodica Polytechnic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ransportatio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gineering.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ol. 43.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ccepted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07:07:33Z</dcterms:created>
  <dc:creator>Sándor Zsolt</dc:creator>
  <dc:description/>
  <dc:language>en-US</dc:language>
  <cp:lastModifiedBy>Kiss Anita</cp:lastModifiedBy>
  <cp:lastPrinted>2013-08-28T08:21:25Z</cp:lastPrinted>
  <dcterms:modified xsi:type="dcterms:W3CDTF">2014-09-09T07:15:24Z</dcterms:modified>
  <cp:revision>122</cp:revision>
  <dc:subject/>
  <dc:title>Késési események elemzése helyi autóbusz közlekedésben</dc:title>
</cp:coreProperties>
</file>